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10080625" cy="7559675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A6D2-04B6-4010-8660-AAD986421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720" y="4374000"/>
            <a:ext cx="907272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B90F-DB85-4AB2-9604-F3062C199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720" y="437400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760" y="437400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D081-78FA-4D2F-914D-768DC1A9F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720" y="4374000"/>
            <a:ext cx="292104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2280" y="4374000"/>
            <a:ext cx="292104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374000"/>
            <a:ext cx="292104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973D-F0DE-49DB-8B13-B0E450038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54B45-BD25-4FCE-8843-09A6D84BD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78B4C-1F3C-4CB0-BD3D-079E18607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83CC6-90FE-4A11-8D67-D73EDD52E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9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9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E2E9C-E936-4203-ACB2-C3F09ECF8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FAC37-ED73-4B5A-B52F-84477919A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7314C-467D-462D-BB59-49472DB4B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9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4720" y="437400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AB0B6-1953-4522-BF2E-7FA677D7B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326F-4EE7-48F6-8837-4DBD33D0F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9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3760" y="437400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097FF-7002-402E-A477-D053FA10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4720" y="4374000"/>
            <a:ext cx="907272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5BE3A-33BB-4095-8108-9ED55E34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720" y="4374000"/>
            <a:ext cx="907272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8B706-A5C2-4E22-A309-C04CA0226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4720" y="437400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3760" y="437400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758D1-E53E-4F70-9F7C-6A986E4C8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720" y="4374000"/>
            <a:ext cx="292104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2280" y="4374000"/>
            <a:ext cx="292104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9840" y="4374000"/>
            <a:ext cx="292104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E4D9E-972B-4AFD-86A4-67F3F859C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6CC7DF-8DD0-4A3D-9023-CAD955392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80EE0F-EEB2-4C9D-9CCD-3E4EEBAB7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5CB04A-5F0A-4741-BB6C-6F86A7C47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9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9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3AEA2B-928D-4489-B357-29101AB4D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05ED02-7D86-454A-BBC0-1FD6E4FF8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D885-CCC2-4D97-8800-5828FBFF5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84CCF4-905B-4278-8920-39F380E52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9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4720" y="437400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9BF3F9-4F35-47D1-8025-36D9C671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9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153760" y="437400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563DFF-94EB-4D7D-BC51-427CCD8C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04720" y="4374000"/>
            <a:ext cx="907272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3E7A6C-B113-4FB0-A018-D83DABE61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04720" y="4374000"/>
            <a:ext cx="907272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0F9A4B-EC46-4B0B-879F-1912B3128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4720" y="437400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5153760" y="437400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29815A-7571-4664-BD65-54F7567B3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04720" y="4374000"/>
            <a:ext cx="292104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572280" y="4374000"/>
            <a:ext cx="292104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639840" y="4374000"/>
            <a:ext cx="292104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091F75-AE56-4CAC-8860-978F28E38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5F3D8-3FF8-493E-8C2C-23004C264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43905-AE3C-4860-9475-6FAAD6F19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5571E-0A21-4092-BAF7-CAA3A5F65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9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9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D240-E0C3-498A-B5E7-7E3599185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9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9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FC089-796A-4340-BCEA-15B8A43F7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32A45-BC5B-4874-ABB7-96A1202FA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DBF93-77B5-4603-BC6D-BB957511B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9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04720" y="437400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6C548-0F90-4E68-9D14-CAC224DC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9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5153760" y="437400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FFAAA-E33D-46F0-96F1-99C708DC7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4720" y="4374000"/>
            <a:ext cx="907272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53C0C-4EB2-4B65-B314-BD64D0F8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504720" y="4374000"/>
            <a:ext cx="907272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2A4D8-72B7-4486-ACD9-4D4CCD704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04720" y="437400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153760" y="437400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EB6D1-C894-447F-9AE6-810395C6C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504720" y="4374000"/>
            <a:ext cx="292104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/>
          </p:nvPr>
        </p:nvSpPr>
        <p:spPr>
          <a:xfrm>
            <a:off x="3572280" y="4374000"/>
            <a:ext cx="292104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7"/>
          <p:cNvSpPr>
            <a:spLocks noGrp="1"/>
          </p:cNvSpPr>
          <p:nvPr>
            <p:ph/>
          </p:nvPr>
        </p:nvSpPr>
        <p:spPr>
          <a:xfrm>
            <a:off x="6639840" y="4374000"/>
            <a:ext cx="292104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C30B2-1608-4376-AEFD-49FC91A77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D58E-54A4-4F69-9443-4E4D98FCF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396A-8508-4771-93A3-6848AF40B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9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720" y="437400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846D-4EA0-4843-8AB7-DD455B6B3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9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760" y="437400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F4F4-88BD-4649-85A8-34F28B5D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720" y="4374000"/>
            <a:ext cx="9072720" cy="2383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D0D9-354B-40B2-B64E-4543D2694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6440"/>
            <a:ext cx="23446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970D74-8CAD-4141-B21A-77B6E499CC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4360" y="6886440"/>
            <a:ext cx="23446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A1F108-30FC-418C-B6D7-82B80099662B}" type="slidenum">
              <a:rPr b="0" lang="de-DE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8f4"/>
            </a:gs>
            <a:gs pos="100000">
              <a:srgbClr val="6a7371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-113760" y="1441440"/>
            <a:ext cx="10307520" cy="6210720"/>
            <a:chOff x="-113760" y="1441440"/>
            <a:chExt cx="10307520" cy="6210720"/>
          </a:xfrm>
        </p:grpSpPr>
        <p:sp>
          <p:nvSpPr>
            <p:cNvPr id="83" name="Rectangle 3"/>
            <p:cNvSpPr/>
            <p:nvPr/>
          </p:nvSpPr>
          <p:spPr>
            <a:xfrm flipV="1" rot="20798400">
              <a:off x="-24480" y="1807200"/>
              <a:ext cx="3050280" cy="1044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39960" bIns="-3996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4"/>
            <p:cNvSpPr/>
            <p:nvPr/>
          </p:nvSpPr>
          <p:spPr>
            <a:xfrm flipV="1" rot="20774400">
              <a:off x="-41760" y="1971360"/>
              <a:ext cx="3557880" cy="1008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0320" bIns="-4032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5"/>
            <p:cNvSpPr/>
            <p:nvPr/>
          </p:nvSpPr>
          <p:spPr>
            <a:xfrm flipV="1" rot="20757600">
              <a:off x="-46800" y="2095920"/>
              <a:ext cx="3930480" cy="1008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0320" bIns="-4032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6"/>
            <p:cNvSpPr/>
            <p:nvPr/>
          </p:nvSpPr>
          <p:spPr>
            <a:xfrm flipV="1" rot="20684400">
              <a:off x="-74880" y="2244960"/>
              <a:ext cx="4331160" cy="1008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0320" bIns="-4032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7"/>
            <p:cNvSpPr/>
            <p:nvPr/>
          </p:nvSpPr>
          <p:spPr>
            <a:xfrm flipV="1" rot="20631600">
              <a:off x="-88560" y="2444400"/>
              <a:ext cx="4847400" cy="864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1760" bIns="-4176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8"/>
            <p:cNvSpPr/>
            <p:nvPr/>
          </p:nvSpPr>
          <p:spPr>
            <a:xfrm flipV="1" rot="20554800">
              <a:off x="-113400" y="2665440"/>
              <a:ext cx="5355000" cy="864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1760" bIns="-4176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9"/>
            <p:cNvSpPr/>
            <p:nvPr/>
          </p:nvSpPr>
          <p:spPr>
            <a:xfrm flipV="1" rot="20466600">
              <a:off x="-162360" y="2964960"/>
              <a:ext cx="5953680" cy="1044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39960" bIns="-3996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10"/>
            <p:cNvSpPr/>
            <p:nvPr/>
          </p:nvSpPr>
          <p:spPr>
            <a:xfrm flipV="1" rot="20343600">
              <a:off x="-172800" y="3260520"/>
              <a:ext cx="6560640" cy="1044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39960" bIns="-3996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11"/>
            <p:cNvSpPr/>
            <p:nvPr/>
          </p:nvSpPr>
          <p:spPr>
            <a:xfrm flipV="1" rot="20211600">
              <a:off x="-288360" y="3592800"/>
              <a:ext cx="7365960" cy="864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1760" bIns="-4176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12"/>
            <p:cNvSpPr/>
            <p:nvPr/>
          </p:nvSpPr>
          <p:spPr>
            <a:xfrm flipV="1" rot="20103000">
              <a:off x="-374400" y="4006440"/>
              <a:ext cx="8073000" cy="1044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39960" bIns="-3996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3"/>
            <p:cNvSpPr/>
            <p:nvPr/>
          </p:nvSpPr>
          <p:spPr>
            <a:xfrm flipV="1" rot="19923600">
              <a:off x="-547200" y="4580280"/>
              <a:ext cx="9100080" cy="864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1760" bIns="-4176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14"/>
            <p:cNvSpPr/>
            <p:nvPr/>
          </p:nvSpPr>
          <p:spPr>
            <a:xfrm flipV="1" rot="19686600">
              <a:off x="15480" y="5042880"/>
              <a:ext cx="9451800" cy="900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6a737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1400" bIns="-4140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5"/>
            <p:cNvSpPr/>
            <p:nvPr/>
          </p:nvSpPr>
          <p:spPr>
            <a:xfrm flipV="1" rot="19383600">
              <a:off x="2307600" y="5125680"/>
              <a:ext cx="8073000" cy="1008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454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0320" bIns="-4032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16"/>
            <p:cNvSpPr/>
            <p:nvPr/>
          </p:nvSpPr>
          <p:spPr>
            <a:xfrm flipV="1" rot="18994200">
              <a:off x="4691160" y="5376240"/>
              <a:ext cx="6258240" cy="1044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07080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39960" bIns="-3996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7"/>
            <p:cNvSpPr/>
            <p:nvPr/>
          </p:nvSpPr>
          <p:spPr>
            <a:xfrm flipV="1" rot="18603600">
              <a:off x="7090560" y="6127920"/>
              <a:ext cx="3640680" cy="1080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39600" bIns="-39600" anchor="t" vert="eaVer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8"/>
            <p:cNvSpPr/>
            <p:nvPr/>
          </p:nvSpPr>
          <p:spPr>
            <a:xfrm flipH="1" flipV="1" rot="18391200">
              <a:off x="9394920" y="7291080"/>
              <a:ext cx="876960" cy="1008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0320" bIns="-40320" anchor="t" vert="eaVer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9"/>
            <p:cNvSpPr/>
            <p:nvPr/>
          </p:nvSpPr>
          <p:spPr>
            <a:xfrm rot="1058400">
              <a:off x="-255240" y="4131360"/>
              <a:ext cx="10580760" cy="1008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0320" bIns="-40320" anchor="t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20"/>
            <p:cNvSpPr/>
            <p:nvPr/>
          </p:nvSpPr>
          <p:spPr>
            <a:xfrm rot="1563600">
              <a:off x="-345960" y="5945760"/>
              <a:ext cx="7248600" cy="1044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29e9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39960" bIns="-39960" anchor="t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21"/>
            <p:cNvSpPr/>
            <p:nvPr/>
          </p:nvSpPr>
          <p:spPr>
            <a:xfrm rot="1732800">
              <a:off x="-288720" y="6345360"/>
              <a:ext cx="4907160" cy="864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29e9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1760" bIns="-41760" anchor="t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2"/>
            <p:cNvSpPr/>
            <p:nvPr/>
          </p:nvSpPr>
          <p:spPr>
            <a:xfrm rot="1968600">
              <a:off x="-192240" y="6867000"/>
              <a:ext cx="2450160" cy="1008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0320" bIns="-40320" anchor="t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3"/>
            <p:cNvSpPr/>
            <p:nvPr/>
          </p:nvSpPr>
          <p:spPr>
            <a:xfrm rot="1386000">
              <a:off x="-377640" y="5639400"/>
              <a:ext cx="9585360" cy="1008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079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0320" bIns="-40320" anchor="t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24"/>
            <p:cNvSpPr/>
            <p:nvPr/>
          </p:nvSpPr>
          <p:spPr>
            <a:xfrm rot="983400">
              <a:off x="-200520" y="3726720"/>
              <a:ext cx="10531800" cy="864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58f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1760" bIns="-41760" anchor="t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25"/>
            <p:cNvSpPr/>
            <p:nvPr/>
          </p:nvSpPr>
          <p:spPr>
            <a:xfrm flipV="1" rot="930600">
              <a:off x="139680" y="3404880"/>
              <a:ext cx="10073160" cy="864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1760" bIns="-4176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26"/>
            <p:cNvSpPr/>
            <p:nvPr/>
          </p:nvSpPr>
          <p:spPr>
            <a:xfrm rot="867600">
              <a:off x="654120" y="3153960"/>
              <a:ext cx="9581400" cy="1044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39960" bIns="-39960" anchor="t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27"/>
            <p:cNvSpPr/>
            <p:nvPr/>
          </p:nvSpPr>
          <p:spPr>
            <a:xfrm rot="775200">
              <a:off x="1483920" y="2768760"/>
              <a:ext cx="8708400" cy="864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1760" bIns="-41760" anchor="t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28"/>
            <p:cNvSpPr/>
            <p:nvPr/>
          </p:nvSpPr>
          <p:spPr>
            <a:xfrm rot="735000">
              <a:off x="1842480" y="2583000"/>
              <a:ext cx="8328600" cy="864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1760" bIns="-41760" anchor="t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29"/>
            <p:cNvSpPr/>
            <p:nvPr/>
          </p:nvSpPr>
          <p:spPr>
            <a:xfrm rot="692400">
              <a:off x="2176920" y="2409120"/>
              <a:ext cx="7974720" cy="864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1760" bIns="-41760" anchor="t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30"/>
            <p:cNvSpPr/>
            <p:nvPr/>
          </p:nvSpPr>
          <p:spPr>
            <a:xfrm flipV="1" rot="655800">
              <a:off x="2602080" y="2282760"/>
              <a:ext cx="754992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0680" bIns="-4068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31"/>
            <p:cNvSpPr/>
            <p:nvPr/>
          </p:nvSpPr>
          <p:spPr>
            <a:xfrm flipV="1" rot="637200">
              <a:off x="2887200" y="2131200"/>
              <a:ext cx="7269480" cy="1008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0320" bIns="-4032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32"/>
            <p:cNvSpPr/>
            <p:nvPr/>
          </p:nvSpPr>
          <p:spPr>
            <a:xfrm flipV="1" rot="804000">
              <a:off x="1068840" y="2947320"/>
              <a:ext cx="9107640" cy="1008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0320" bIns="-4032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33"/>
            <p:cNvSpPr/>
            <p:nvPr/>
          </p:nvSpPr>
          <p:spPr>
            <a:xfrm flipV="1" rot="1273800">
              <a:off x="-356760" y="5209200"/>
              <a:ext cx="10762920" cy="1044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39960" bIns="-3996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34"/>
            <p:cNvSpPr/>
            <p:nvPr/>
          </p:nvSpPr>
          <p:spPr>
            <a:xfrm flipV="1" rot="1170000">
              <a:off x="-303840" y="4661280"/>
              <a:ext cx="10685520" cy="1044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67f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39960" bIns="-3996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35"/>
            <p:cNvSpPr/>
            <p:nvPr/>
          </p:nvSpPr>
          <p:spPr>
            <a:xfrm>
              <a:off x="1294920" y="5880960"/>
              <a:ext cx="293760" cy="168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36"/>
            <p:cNvSpPr/>
            <p:nvPr/>
          </p:nvSpPr>
          <p:spPr>
            <a:xfrm>
              <a:off x="412920" y="5381640"/>
              <a:ext cx="293760" cy="1663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37"/>
            <p:cNvSpPr/>
            <p:nvPr/>
          </p:nvSpPr>
          <p:spPr>
            <a:xfrm>
              <a:off x="278280" y="6394320"/>
              <a:ext cx="342720" cy="1857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38"/>
            <p:cNvSpPr/>
            <p:nvPr/>
          </p:nvSpPr>
          <p:spPr>
            <a:xfrm>
              <a:off x="3634920" y="4658400"/>
              <a:ext cx="272880" cy="1472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39"/>
            <p:cNvSpPr/>
            <p:nvPr/>
          </p:nvSpPr>
          <p:spPr>
            <a:xfrm>
              <a:off x="2140200" y="5385240"/>
              <a:ext cx="299160" cy="1627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40"/>
            <p:cNvSpPr/>
            <p:nvPr/>
          </p:nvSpPr>
          <p:spPr>
            <a:xfrm>
              <a:off x="2950560" y="5002200"/>
              <a:ext cx="272880" cy="1569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41"/>
            <p:cNvSpPr/>
            <p:nvPr/>
          </p:nvSpPr>
          <p:spPr>
            <a:xfrm>
              <a:off x="1312200" y="4970160"/>
              <a:ext cx="264240" cy="1558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42"/>
            <p:cNvSpPr/>
            <p:nvPr/>
          </p:nvSpPr>
          <p:spPr>
            <a:xfrm>
              <a:off x="642240" y="4649760"/>
              <a:ext cx="262440" cy="1450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43"/>
            <p:cNvSpPr/>
            <p:nvPr/>
          </p:nvSpPr>
          <p:spPr>
            <a:xfrm>
              <a:off x="2050920" y="4624920"/>
              <a:ext cx="272880" cy="1450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44"/>
            <p:cNvSpPr/>
            <p:nvPr/>
          </p:nvSpPr>
          <p:spPr>
            <a:xfrm>
              <a:off x="4201920" y="4350240"/>
              <a:ext cx="272880" cy="1450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45"/>
            <p:cNvSpPr/>
            <p:nvPr/>
          </p:nvSpPr>
          <p:spPr>
            <a:xfrm>
              <a:off x="3342600" y="4050720"/>
              <a:ext cx="230760" cy="1278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46"/>
            <p:cNvSpPr/>
            <p:nvPr/>
          </p:nvSpPr>
          <p:spPr>
            <a:xfrm>
              <a:off x="3944880" y="3770640"/>
              <a:ext cx="234000" cy="106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47"/>
            <p:cNvSpPr/>
            <p:nvPr/>
          </p:nvSpPr>
          <p:spPr>
            <a:xfrm>
              <a:off x="4798440" y="4034880"/>
              <a:ext cx="245160" cy="126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48"/>
            <p:cNvSpPr/>
            <p:nvPr/>
          </p:nvSpPr>
          <p:spPr>
            <a:xfrm>
              <a:off x="4921200" y="3322440"/>
              <a:ext cx="225720" cy="106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49"/>
            <p:cNvSpPr/>
            <p:nvPr/>
          </p:nvSpPr>
          <p:spPr>
            <a:xfrm>
              <a:off x="6512040" y="3136320"/>
              <a:ext cx="223560" cy="106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50"/>
            <p:cNvSpPr/>
            <p:nvPr/>
          </p:nvSpPr>
          <p:spPr>
            <a:xfrm>
              <a:off x="6174360" y="3318840"/>
              <a:ext cx="230760" cy="106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51"/>
            <p:cNvSpPr/>
            <p:nvPr/>
          </p:nvSpPr>
          <p:spPr>
            <a:xfrm>
              <a:off x="5361840" y="3111840"/>
              <a:ext cx="223920" cy="1087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52"/>
            <p:cNvSpPr/>
            <p:nvPr/>
          </p:nvSpPr>
          <p:spPr>
            <a:xfrm>
              <a:off x="5735160" y="3542760"/>
              <a:ext cx="230760" cy="1278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53"/>
            <p:cNvSpPr/>
            <p:nvPr/>
          </p:nvSpPr>
          <p:spPr>
            <a:xfrm>
              <a:off x="5297400" y="3781080"/>
              <a:ext cx="232920" cy="106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54"/>
            <p:cNvSpPr/>
            <p:nvPr/>
          </p:nvSpPr>
          <p:spPr>
            <a:xfrm>
              <a:off x="2745720" y="4294080"/>
              <a:ext cx="262080" cy="1576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55"/>
            <p:cNvSpPr/>
            <p:nvPr/>
          </p:nvSpPr>
          <p:spPr>
            <a:xfrm>
              <a:off x="3260160" y="3549960"/>
              <a:ext cx="243000" cy="106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56"/>
            <p:cNvSpPr/>
            <p:nvPr/>
          </p:nvSpPr>
          <p:spPr>
            <a:xfrm>
              <a:off x="2647800" y="3807360"/>
              <a:ext cx="243000" cy="1101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57"/>
            <p:cNvSpPr/>
            <p:nvPr/>
          </p:nvSpPr>
          <p:spPr>
            <a:xfrm>
              <a:off x="2084400" y="4045680"/>
              <a:ext cx="234360" cy="1278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58"/>
            <p:cNvSpPr/>
            <p:nvPr/>
          </p:nvSpPr>
          <p:spPr>
            <a:xfrm>
              <a:off x="2019600" y="3583440"/>
              <a:ext cx="234360" cy="106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59"/>
            <p:cNvSpPr/>
            <p:nvPr/>
          </p:nvSpPr>
          <p:spPr>
            <a:xfrm>
              <a:off x="1998720" y="3155760"/>
              <a:ext cx="223560" cy="106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60"/>
            <p:cNvSpPr/>
            <p:nvPr/>
          </p:nvSpPr>
          <p:spPr>
            <a:xfrm>
              <a:off x="2625120" y="3346560"/>
              <a:ext cx="223560" cy="1101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61"/>
            <p:cNvSpPr/>
            <p:nvPr/>
          </p:nvSpPr>
          <p:spPr>
            <a:xfrm>
              <a:off x="3156840" y="3152160"/>
              <a:ext cx="223920" cy="106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62"/>
            <p:cNvSpPr/>
            <p:nvPr/>
          </p:nvSpPr>
          <p:spPr>
            <a:xfrm>
              <a:off x="3778560" y="3334680"/>
              <a:ext cx="223560" cy="106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63"/>
            <p:cNvSpPr/>
            <p:nvPr/>
          </p:nvSpPr>
          <p:spPr>
            <a:xfrm>
              <a:off x="4255920" y="3127680"/>
              <a:ext cx="223920" cy="106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64"/>
            <p:cNvSpPr/>
            <p:nvPr/>
          </p:nvSpPr>
          <p:spPr>
            <a:xfrm>
              <a:off x="822600" y="3557160"/>
              <a:ext cx="234000" cy="1274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65"/>
            <p:cNvSpPr/>
            <p:nvPr/>
          </p:nvSpPr>
          <p:spPr>
            <a:xfrm>
              <a:off x="119160" y="3791520"/>
              <a:ext cx="234360" cy="1278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66"/>
            <p:cNvSpPr/>
            <p:nvPr/>
          </p:nvSpPr>
          <p:spPr>
            <a:xfrm>
              <a:off x="1396440" y="3353760"/>
              <a:ext cx="223560" cy="106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67"/>
            <p:cNvSpPr/>
            <p:nvPr/>
          </p:nvSpPr>
          <p:spPr>
            <a:xfrm>
              <a:off x="795960" y="3145320"/>
              <a:ext cx="223920" cy="106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68"/>
            <p:cNvSpPr/>
            <p:nvPr/>
          </p:nvSpPr>
          <p:spPr>
            <a:xfrm>
              <a:off x="197640" y="3327480"/>
              <a:ext cx="223920" cy="106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69"/>
            <p:cNvSpPr/>
            <p:nvPr/>
          </p:nvSpPr>
          <p:spPr>
            <a:xfrm>
              <a:off x="756000" y="4066560"/>
              <a:ext cx="248400" cy="1101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70"/>
            <p:cNvSpPr/>
            <p:nvPr/>
          </p:nvSpPr>
          <p:spPr>
            <a:xfrm>
              <a:off x="1424520" y="3812400"/>
              <a:ext cx="234000" cy="106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71"/>
            <p:cNvSpPr/>
            <p:nvPr/>
          </p:nvSpPr>
          <p:spPr>
            <a:xfrm>
              <a:off x="1380600" y="4327560"/>
              <a:ext cx="272880" cy="1555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72"/>
            <p:cNvSpPr/>
            <p:nvPr/>
          </p:nvSpPr>
          <p:spPr>
            <a:xfrm>
              <a:off x="4452120" y="3527280"/>
              <a:ext cx="245160" cy="125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73"/>
            <p:cNvSpPr/>
            <p:nvPr/>
          </p:nvSpPr>
          <p:spPr>
            <a:xfrm>
              <a:off x="2549880" y="2975760"/>
              <a:ext cx="214920" cy="88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74"/>
            <p:cNvSpPr/>
            <p:nvPr/>
          </p:nvSpPr>
          <p:spPr>
            <a:xfrm>
              <a:off x="3057480" y="2798280"/>
              <a:ext cx="214920" cy="87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75"/>
            <p:cNvSpPr/>
            <p:nvPr/>
          </p:nvSpPr>
          <p:spPr>
            <a:xfrm>
              <a:off x="2423520" y="2635560"/>
              <a:ext cx="215280" cy="87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76"/>
            <p:cNvSpPr/>
            <p:nvPr/>
          </p:nvSpPr>
          <p:spPr>
            <a:xfrm>
              <a:off x="1912680" y="2791800"/>
              <a:ext cx="214920" cy="88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77"/>
            <p:cNvSpPr/>
            <p:nvPr/>
          </p:nvSpPr>
          <p:spPr>
            <a:xfrm>
              <a:off x="1386360" y="2957760"/>
              <a:ext cx="216360" cy="89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78"/>
            <p:cNvSpPr/>
            <p:nvPr/>
          </p:nvSpPr>
          <p:spPr>
            <a:xfrm>
              <a:off x="3519360" y="2646360"/>
              <a:ext cx="214920" cy="943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79"/>
            <p:cNvSpPr/>
            <p:nvPr/>
          </p:nvSpPr>
          <p:spPr>
            <a:xfrm>
              <a:off x="3652200" y="2968560"/>
              <a:ext cx="213480" cy="87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80"/>
            <p:cNvSpPr/>
            <p:nvPr/>
          </p:nvSpPr>
          <p:spPr>
            <a:xfrm>
              <a:off x="4104000" y="2801880"/>
              <a:ext cx="214920" cy="87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81"/>
            <p:cNvSpPr/>
            <p:nvPr/>
          </p:nvSpPr>
          <p:spPr>
            <a:xfrm>
              <a:off x="4697280" y="2950920"/>
              <a:ext cx="214920" cy="89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82"/>
            <p:cNvSpPr/>
            <p:nvPr/>
          </p:nvSpPr>
          <p:spPr>
            <a:xfrm>
              <a:off x="1410480" y="2646360"/>
              <a:ext cx="213480" cy="943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83"/>
            <p:cNvSpPr/>
            <p:nvPr/>
          </p:nvSpPr>
          <p:spPr>
            <a:xfrm>
              <a:off x="866160" y="2795040"/>
              <a:ext cx="213480" cy="87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84"/>
            <p:cNvSpPr/>
            <p:nvPr/>
          </p:nvSpPr>
          <p:spPr>
            <a:xfrm>
              <a:off x="398880" y="2639160"/>
              <a:ext cx="215280" cy="87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85"/>
            <p:cNvSpPr/>
            <p:nvPr/>
          </p:nvSpPr>
          <p:spPr>
            <a:xfrm>
              <a:off x="274680" y="2972160"/>
              <a:ext cx="215280" cy="943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86"/>
            <p:cNvSpPr/>
            <p:nvPr/>
          </p:nvSpPr>
          <p:spPr>
            <a:xfrm>
              <a:off x="5052600" y="2791800"/>
              <a:ext cx="213480" cy="87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87"/>
            <p:cNvSpPr/>
            <p:nvPr/>
          </p:nvSpPr>
          <p:spPr>
            <a:xfrm>
              <a:off x="5388480" y="2644200"/>
              <a:ext cx="216360" cy="943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88"/>
            <p:cNvSpPr/>
            <p:nvPr/>
          </p:nvSpPr>
          <p:spPr>
            <a:xfrm>
              <a:off x="5722920" y="2954520"/>
              <a:ext cx="217080" cy="943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89"/>
            <p:cNvSpPr/>
            <p:nvPr/>
          </p:nvSpPr>
          <p:spPr>
            <a:xfrm>
              <a:off x="6042960" y="2798280"/>
              <a:ext cx="213480" cy="87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90"/>
            <p:cNvSpPr/>
            <p:nvPr/>
          </p:nvSpPr>
          <p:spPr>
            <a:xfrm>
              <a:off x="6389640" y="2635560"/>
              <a:ext cx="214920" cy="87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91"/>
            <p:cNvSpPr/>
            <p:nvPr/>
          </p:nvSpPr>
          <p:spPr>
            <a:xfrm>
              <a:off x="7439760" y="2647800"/>
              <a:ext cx="213480" cy="89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92"/>
            <p:cNvSpPr/>
            <p:nvPr/>
          </p:nvSpPr>
          <p:spPr>
            <a:xfrm>
              <a:off x="6826680" y="2977200"/>
              <a:ext cx="223920" cy="87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93"/>
            <p:cNvSpPr/>
            <p:nvPr/>
          </p:nvSpPr>
          <p:spPr>
            <a:xfrm>
              <a:off x="7150680" y="2814480"/>
              <a:ext cx="223920" cy="87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94"/>
            <p:cNvSpPr/>
            <p:nvPr/>
          </p:nvSpPr>
          <p:spPr>
            <a:xfrm>
              <a:off x="2243520" y="6396120"/>
              <a:ext cx="343080" cy="1940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95"/>
            <p:cNvSpPr/>
            <p:nvPr/>
          </p:nvSpPr>
          <p:spPr>
            <a:xfrm>
              <a:off x="1237320" y="7028640"/>
              <a:ext cx="334080" cy="19620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96"/>
            <p:cNvSpPr/>
            <p:nvPr/>
          </p:nvSpPr>
          <p:spPr>
            <a:xfrm>
              <a:off x="3900600" y="5410080"/>
              <a:ext cx="299160" cy="1663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97"/>
            <p:cNvSpPr/>
            <p:nvPr/>
          </p:nvSpPr>
          <p:spPr>
            <a:xfrm>
              <a:off x="4557240" y="5019480"/>
              <a:ext cx="272880" cy="1555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98"/>
            <p:cNvSpPr/>
            <p:nvPr/>
          </p:nvSpPr>
          <p:spPr>
            <a:xfrm>
              <a:off x="5087520" y="4670640"/>
              <a:ext cx="272880" cy="14508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99"/>
            <p:cNvSpPr/>
            <p:nvPr/>
          </p:nvSpPr>
          <p:spPr>
            <a:xfrm>
              <a:off x="5684400" y="4295880"/>
              <a:ext cx="262080" cy="15768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00"/>
            <p:cNvSpPr/>
            <p:nvPr/>
          </p:nvSpPr>
          <p:spPr>
            <a:xfrm>
              <a:off x="3151800" y="5883120"/>
              <a:ext cx="293760" cy="1627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101"/>
            <p:cNvSpPr/>
            <p:nvPr/>
          </p:nvSpPr>
          <p:spPr>
            <a:xfrm>
              <a:off x="6146280" y="4029840"/>
              <a:ext cx="234360" cy="12780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102"/>
            <p:cNvSpPr/>
            <p:nvPr/>
          </p:nvSpPr>
          <p:spPr>
            <a:xfrm>
              <a:off x="6965280" y="3525120"/>
              <a:ext cx="230760" cy="12600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103"/>
            <p:cNvSpPr/>
            <p:nvPr/>
          </p:nvSpPr>
          <p:spPr>
            <a:xfrm>
              <a:off x="6568200" y="3777480"/>
              <a:ext cx="230760" cy="10656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104"/>
            <p:cNvSpPr/>
            <p:nvPr/>
          </p:nvSpPr>
          <p:spPr>
            <a:xfrm>
              <a:off x="7308360" y="3322440"/>
              <a:ext cx="223560" cy="10656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105"/>
            <p:cNvSpPr/>
            <p:nvPr/>
          </p:nvSpPr>
          <p:spPr>
            <a:xfrm>
              <a:off x="7591680" y="3145320"/>
              <a:ext cx="230760" cy="10656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106"/>
            <p:cNvSpPr/>
            <p:nvPr/>
          </p:nvSpPr>
          <p:spPr>
            <a:xfrm>
              <a:off x="7884000" y="2975760"/>
              <a:ext cx="213480" cy="889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a1b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107"/>
            <p:cNvSpPr/>
            <p:nvPr/>
          </p:nvSpPr>
          <p:spPr>
            <a:xfrm>
              <a:off x="8157240" y="2805480"/>
              <a:ext cx="213480" cy="871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a1b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108"/>
            <p:cNvSpPr/>
            <p:nvPr/>
          </p:nvSpPr>
          <p:spPr>
            <a:xfrm>
              <a:off x="8405640" y="2646360"/>
              <a:ext cx="223560" cy="943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109"/>
            <p:cNvSpPr/>
            <p:nvPr/>
          </p:nvSpPr>
          <p:spPr>
            <a:xfrm>
              <a:off x="8627760" y="2504160"/>
              <a:ext cx="194040" cy="8748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110"/>
            <p:cNvSpPr/>
            <p:nvPr/>
          </p:nvSpPr>
          <p:spPr>
            <a:xfrm>
              <a:off x="6711480" y="2502360"/>
              <a:ext cx="195840" cy="87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111"/>
            <p:cNvSpPr/>
            <p:nvPr/>
          </p:nvSpPr>
          <p:spPr>
            <a:xfrm>
              <a:off x="5750640" y="2502360"/>
              <a:ext cx="195840" cy="87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112"/>
            <p:cNvSpPr/>
            <p:nvPr/>
          </p:nvSpPr>
          <p:spPr>
            <a:xfrm>
              <a:off x="5201280" y="2390400"/>
              <a:ext cx="194040" cy="943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113"/>
            <p:cNvSpPr/>
            <p:nvPr/>
          </p:nvSpPr>
          <p:spPr>
            <a:xfrm>
              <a:off x="5515920" y="2260800"/>
              <a:ext cx="195840" cy="87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114"/>
            <p:cNvSpPr/>
            <p:nvPr/>
          </p:nvSpPr>
          <p:spPr>
            <a:xfrm>
              <a:off x="5285160" y="2046960"/>
              <a:ext cx="195840" cy="946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115"/>
            <p:cNvSpPr/>
            <p:nvPr/>
          </p:nvSpPr>
          <p:spPr>
            <a:xfrm>
              <a:off x="4275360" y="2394000"/>
              <a:ext cx="195840" cy="88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116"/>
            <p:cNvSpPr/>
            <p:nvPr/>
          </p:nvSpPr>
          <p:spPr>
            <a:xfrm>
              <a:off x="4026960" y="2134800"/>
              <a:ext cx="195840" cy="89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117"/>
            <p:cNvSpPr/>
            <p:nvPr/>
          </p:nvSpPr>
          <p:spPr>
            <a:xfrm>
              <a:off x="3666240" y="2246760"/>
              <a:ext cx="195840" cy="89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118"/>
            <p:cNvSpPr/>
            <p:nvPr/>
          </p:nvSpPr>
          <p:spPr>
            <a:xfrm>
              <a:off x="3899160" y="2523600"/>
              <a:ext cx="195840" cy="87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119"/>
            <p:cNvSpPr/>
            <p:nvPr/>
          </p:nvSpPr>
          <p:spPr>
            <a:xfrm>
              <a:off x="1940760" y="2491920"/>
              <a:ext cx="195840" cy="946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120"/>
            <p:cNvSpPr/>
            <p:nvPr/>
          </p:nvSpPr>
          <p:spPr>
            <a:xfrm>
              <a:off x="1069200" y="2246760"/>
              <a:ext cx="194400" cy="89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121"/>
            <p:cNvSpPr/>
            <p:nvPr/>
          </p:nvSpPr>
          <p:spPr>
            <a:xfrm>
              <a:off x="533880" y="2376360"/>
              <a:ext cx="195840" cy="89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122"/>
            <p:cNvSpPr/>
            <p:nvPr/>
          </p:nvSpPr>
          <p:spPr>
            <a:xfrm>
              <a:off x="272880" y="2019240"/>
              <a:ext cx="195840" cy="87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123"/>
            <p:cNvSpPr/>
            <p:nvPr/>
          </p:nvSpPr>
          <p:spPr>
            <a:xfrm>
              <a:off x="7941600" y="2388600"/>
              <a:ext cx="185400" cy="78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124"/>
            <p:cNvSpPr/>
            <p:nvPr/>
          </p:nvSpPr>
          <p:spPr>
            <a:xfrm>
              <a:off x="7712640" y="2520000"/>
              <a:ext cx="183600" cy="770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125"/>
            <p:cNvSpPr/>
            <p:nvPr/>
          </p:nvSpPr>
          <p:spPr>
            <a:xfrm>
              <a:off x="6986520" y="2373120"/>
              <a:ext cx="185040" cy="78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126"/>
            <p:cNvSpPr/>
            <p:nvPr/>
          </p:nvSpPr>
          <p:spPr>
            <a:xfrm>
              <a:off x="6065640" y="2373120"/>
              <a:ext cx="185400" cy="78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127"/>
            <p:cNvSpPr/>
            <p:nvPr/>
          </p:nvSpPr>
          <p:spPr>
            <a:xfrm>
              <a:off x="4991400" y="2148480"/>
              <a:ext cx="185040" cy="770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128"/>
            <p:cNvSpPr/>
            <p:nvPr/>
          </p:nvSpPr>
          <p:spPr>
            <a:xfrm>
              <a:off x="4686480" y="1940040"/>
              <a:ext cx="185400" cy="770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129"/>
            <p:cNvSpPr/>
            <p:nvPr/>
          </p:nvSpPr>
          <p:spPr>
            <a:xfrm>
              <a:off x="5003280" y="1828080"/>
              <a:ext cx="185400" cy="770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130"/>
            <p:cNvSpPr/>
            <p:nvPr/>
          </p:nvSpPr>
          <p:spPr>
            <a:xfrm>
              <a:off x="3398760" y="1819440"/>
              <a:ext cx="185040" cy="78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31"/>
            <p:cNvSpPr/>
            <p:nvPr/>
          </p:nvSpPr>
          <p:spPr>
            <a:xfrm>
              <a:off x="1904040" y="2234520"/>
              <a:ext cx="180000" cy="770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2"/>
            <p:cNvSpPr/>
            <p:nvPr/>
          </p:nvSpPr>
          <p:spPr>
            <a:xfrm>
              <a:off x="1447200" y="2362320"/>
              <a:ext cx="185040" cy="770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133"/>
            <p:cNvSpPr/>
            <p:nvPr/>
          </p:nvSpPr>
          <p:spPr>
            <a:xfrm>
              <a:off x="939600" y="2499120"/>
              <a:ext cx="185040" cy="770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134"/>
            <p:cNvSpPr/>
            <p:nvPr/>
          </p:nvSpPr>
          <p:spPr>
            <a:xfrm>
              <a:off x="1111320" y="1854360"/>
              <a:ext cx="185400" cy="78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135"/>
            <p:cNvSpPr/>
            <p:nvPr/>
          </p:nvSpPr>
          <p:spPr>
            <a:xfrm>
              <a:off x="2694960" y="1836720"/>
              <a:ext cx="185040" cy="78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136"/>
            <p:cNvSpPr/>
            <p:nvPr/>
          </p:nvSpPr>
          <p:spPr>
            <a:xfrm>
              <a:off x="1960200" y="1859760"/>
              <a:ext cx="183600" cy="78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37"/>
            <p:cNvSpPr/>
            <p:nvPr/>
          </p:nvSpPr>
          <p:spPr>
            <a:xfrm>
              <a:off x="7229520" y="2246760"/>
              <a:ext cx="195480" cy="78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38"/>
            <p:cNvSpPr/>
            <p:nvPr/>
          </p:nvSpPr>
          <p:spPr>
            <a:xfrm>
              <a:off x="6085080" y="2035080"/>
              <a:ext cx="195480" cy="770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139"/>
            <p:cNvSpPr/>
            <p:nvPr/>
          </p:nvSpPr>
          <p:spPr>
            <a:xfrm>
              <a:off x="5801400" y="2150640"/>
              <a:ext cx="195840" cy="78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140"/>
            <p:cNvSpPr/>
            <p:nvPr/>
          </p:nvSpPr>
          <p:spPr>
            <a:xfrm>
              <a:off x="5554440" y="1945800"/>
              <a:ext cx="195840" cy="770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141"/>
            <p:cNvSpPr/>
            <p:nvPr/>
          </p:nvSpPr>
          <p:spPr>
            <a:xfrm>
              <a:off x="4193280" y="1838880"/>
              <a:ext cx="195840" cy="78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142"/>
            <p:cNvSpPr/>
            <p:nvPr/>
          </p:nvSpPr>
          <p:spPr>
            <a:xfrm>
              <a:off x="4845960" y="2530440"/>
              <a:ext cx="194040" cy="770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143"/>
            <p:cNvSpPr/>
            <p:nvPr/>
          </p:nvSpPr>
          <p:spPr>
            <a:xfrm>
              <a:off x="4647960" y="2264400"/>
              <a:ext cx="195840" cy="78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144"/>
            <p:cNvSpPr/>
            <p:nvPr/>
          </p:nvSpPr>
          <p:spPr>
            <a:xfrm>
              <a:off x="4376880" y="2027880"/>
              <a:ext cx="195840" cy="78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145"/>
            <p:cNvSpPr/>
            <p:nvPr/>
          </p:nvSpPr>
          <p:spPr>
            <a:xfrm>
              <a:off x="3888360" y="1926360"/>
              <a:ext cx="195840" cy="770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146"/>
            <p:cNvSpPr/>
            <p:nvPr/>
          </p:nvSpPr>
          <p:spPr>
            <a:xfrm>
              <a:off x="3550680" y="2032920"/>
              <a:ext cx="194400" cy="770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147"/>
            <p:cNvSpPr/>
            <p:nvPr/>
          </p:nvSpPr>
          <p:spPr>
            <a:xfrm>
              <a:off x="3281400" y="2373120"/>
              <a:ext cx="195840" cy="78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148"/>
            <p:cNvSpPr/>
            <p:nvPr/>
          </p:nvSpPr>
          <p:spPr>
            <a:xfrm>
              <a:off x="3165840" y="2139840"/>
              <a:ext cx="195840" cy="770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149"/>
            <p:cNvSpPr/>
            <p:nvPr/>
          </p:nvSpPr>
          <p:spPr>
            <a:xfrm>
              <a:off x="3041640" y="1920960"/>
              <a:ext cx="195840" cy="78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150"/>
            <p:cNvSpPr/>
            <p:nvPr/>
          </p:nvSpPr>
          <p:spPr>
            <a:xfrm>
              <a:off x="2770560" y="2255400"/>
              <a:ext cx="195480" cy="770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51"/>
            <p:cNvSpPr/>
            <p:nvPr/>
          </p:nvSpPr>
          <p:spPr>
            <a:xfrm>
              <a:off x="2413440" y="2350080"/>
              <a:ext cx="195840" cy="78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152"/>
            <p:cNvSpPr/>
            <p:nvPr/>
          </p:nvSpPr>
          <p:spPr>
            <a:xfrm>
              <a:off x="2675520" y="2022840"/>
              <a:ext cx="195840" cy="78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153"/>
            <p:cNvSpPr/>
            <p:nvPr/>
          </p:nvSpPr>
          <p:spPr>
            <a:xfrm>
              <a:off x="2264400" y="2138400"/>
              <a:ext cx="195840" cy="770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154"/>
            <p:cNvSpPr/>
            <p:nvPr/>
          </p:nvSpPr>
          <p:spPr>
            <a:xfrm>
              <a:off x="2299320" y="1945800"/>
              <a:ext cx="195840" cy="770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155"/>
            <p:cNvSpPr/>
            <p:nvPr/>
          </p:nvSpPr>
          <p:spPr>
            <a:xfrm>
              <a:off x="1893240" y="2040120"/>
              <a:ext cx="194400" cy="78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156"/>
            <p:cNvSpPr/>
            <p:nvPr/>
          </p:nvSpPr>
          <p:spPr>
            <a:xfrm>
              <a:off x="1534680" y="1961280"/>
              <a:ext cx="195840" cy="78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157"/>
            <p:cNvSpPr/>
            <p:nvPr/>
          </p:nvSpPr>
          <p:spPr>
            <a:xfrm>
              <a:off x="1531440" y="2127600"/>
              <a:ext cx="194040" cy="78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158"/>
            <p:cNvSpPr/>
            <p:nvPr/>
          </p:nvSpPr>
          <p:spPr>
            <a:xfrm>
              <a:off x="1190160" y="2046960"/>
              <a:ext cx="195840" cy="770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159"/>
            <p:cNvSpPr/>
            <p:nvPr/>
          </p:nvSpPr>
          <p:spPr>
            <a:xfrm>
              <a:off x="718920" y="2155680"/>
              <a:ext cx="195840" cy="770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160"/>
            <p:cNvSpPr/>
            <p:nvPr/>
          </p:nvSpPr>
          <p:spPr>
            <a:xfrm>
              <a:off x="759600" y="1924560"/>
              <a:ext cx="195840" cy="770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161"/>
            <p:cNvSpPr/>
            <p:nvPr/>
          </p:nvSpPr>
          <p:spPr>
            <a:xfrm>
              <a:off x="208440" y="2296080"/>
              <a:ext cx="195840" cy="770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162"/>
            <p:cNvSpPr/>
            <p:nvPr/>
          </p:nvSpPr>
          <p:spPr>
            <a:xfrm>
              <a:off x="1501560" y="1751040"/>
              <a:ext cx="176400" cy="666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163"/>
            <p:cNvSpPr/>
            <p:nvPr/>
          </p:nvSpPr>
          <p:spPr>
            <a:xfrm>
              <a:off x="2346480" y="1772280"/>
              <a:ext cx="180360" cy="680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164"/>
            <p:cNvSpPr/>
            <p:nvPr/>
          </p:nvSpPr>
          <p:spPr>
            <a:xfrm>
              <a:off x="3043440" y="1763280"/>
              <a:ext cx="180000" cy="666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165"/>
            <p:cNvSpPr/>
            <p:nvPr/>
          </p:nvSpPr>
          <p:spPr>
            <a:xfrm>
              <a:off x="3702960" y="1751040"/>
              <a:ext cx="174960" cy="680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166"/>
            <p:cNvSpPr/>
            <p:nvPr/>
          </p:nvSpPr>
          <p:spPr>
            <a:xfrm>
              <a:off x="4060440" y="1646280"/>
              <a:ext cx="176400" cy="680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167"/>
            <p:cNvSpPr/>
            <p:nvPr/>
          </p:nvSpPr>
          <p:spPr>
            <a:xfrm>
              <a:off x="4551840" y="1740600"/>
              <a:ext cx="180000" cy="594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168"/>
            <p:cNvSpPr/>
            <p:nvPr/>
          </p:nvSpPr>
          <p:spPr>
            <a:xfrm>
              <a:off x="2917440" y="2485080"/>
              <a:ext cx="185040" cy="89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69"/>
            <p:cNvSpPr/>
            <p:nvPr/>
          </p:nvSpPr>
          <p:spPr>
            <a:xfrm>
              <a:off x="4475160" y="2653200"/>
              <a:ext cx="214920" cy="89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170"/>
            <p:cNvSpPr/>
            <p:nvPr/>
          </p:nvSpPr>
          <p:spPr>
            <a:xfrm>
              <a:off x="6333480" y="2251800"/>
              <a:ext cx="195840" cy="943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171"/>
            <p:cNvSpPr/>
            <p:nvPr/>
          </p:nvSpPr>
          <p:spPr>
            <a:xfrm>
              <a:off x="6634440" y="2120760"/>
              <a:ext cx="195840" cy="88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72"/>
            <p:cNvSpPr/>
            <p:nvPr/>
          </p:nvSpPr>
          <p:spPr>
            <a:xfrm>
              <a:off x="3734280" y="1588320"/>
              <a:ext cx="138240" cy="594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173"/>
            <p:cNvSpPr/>
            <p:nvPr/>
          </p:nvSpPr>
          <p:spPr>
            <a:xfrm>
              <a:off x="2212200" y="1588320"/>
              <a:ext cx="137880" cy="594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174"/>
            <p:cNvSpPr/>
            <p:nvPr/>
          </p:nvSpPr>
          <p:spPr>
            <a:xfrm>
              <a:off x="2574360" y="1519920"/>
              <a:ext cx="137880" cy="594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175"/>
            <p:cNvSpPr/>
            <p:nvPr/>
          </p:nvSpPr>
          <p:spPr>
            <a:xfrm>
              <a:off x="2887560" y="1441440"/>
              <a:ext cx="145080" cy="594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176"/>
            <p:cNvSpPr/>
            <p:nvPr/>
          </p:nvSpPr>
          <p:spPr>
            <a:xfrm>
              <a:off x="3356640" y="1519920"/>
              <a:ext cx="145080" cy="594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177"/>
            <p:cNvSpPr/>
            <p:nvPr/>
          </p:nvSpPr>
          <p:spPr>
            <a:xfrm>
              <a:off x="3010320" y="1614600"/>
              <a:ext cx="145080" cy="594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178"/>
            <p:cNvSpPr/>
            <p:nvPr/>
          </p:nvSpPr>
          <p:spPr>
            <a:xfrm>
              <a:off x="3348000" y="1674000"/>
              <a:ext cx="165960" cy="770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179"/>
            <p:cNvSpPr/>
            <p:nvPr/>
          </p:nvSpPr>
          <p:spPr>
            <a:xfrm>
              <a:off x="2696760" y="1682640"/>
              <a:ext cx="155880" cy="78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180"/>
            <p:cNvSpPr/>
            <p:nvPr/>
          </p:nvSpPr>
          <p:spPr>
            <a:xfrm>
              <a:off x="1883160" y="1666800"/>
              <a:ext cx="180000" cy="78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181"/>
            <p:cNvSpPr/>
            <p:nvPr/>
          </p:nvSpPr>
          <p:spPr>
            <a:xfrm>
              <a:off x="3470040" y="7050960"/>
              <a:ext cx="341280" cy="18360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182"/>
            <p:cNvSpPr/>
            <p:nvPr/>
          </p:nvSpPr>
          <p:spPr>
            <a:xfrm>
              <a:off x="4305240" y="6427440"/>
              <a:ext cx="342720" cy="19620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183"/>
            <p:cNvSpPr/>
            <p:nvPr/>
          </p:nvSpPr>
          <p:spPr>
            <a:xfrm>
              <a:off x="5666760" y="5464440"/>
              <a:ext cx="293760" cy="1663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184"/>
            <p:cNvSpPr/>
            <p:nvPr/>
          </p:nvSpPr>
          <p:spPr>
            <a:xfrm>
              <a:off x="6212880" y="5042160"/>
              <a:ext cx="274320" cy="1627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185"/>
            <p:cNvSpPr/>
            <p:nvPr/>
          </p:nvSpPr>
          <p:spPr>
            <a:xfrm>
              <a:off x="5061240" y="5912640"/>
              <a:ext cx="299160" cy="1663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186"/>
            <p:cNvSpPr/>
            <p:nvPr/>
          </p:nvSpPr>
          <p:spPr>
            <a:xfrm>
              <a:off x="6770880" y="4651560"/>
              <a:ext cx="264240" cy="14508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187"/>
            <p:cNvSpPr/>
            <p:nvPr/>
          </p:nvSpPr>
          <p:spPr>
            <a:xfrm>
              <a:off x="7157880" y="4332600"/>
              <a:ext cx="272880" cy="15588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188"/>
            <p:cNvSpPr/>
            <p:nvPr/>
          </p:nvSpPr>
          <p:spPr>
            <a:xfrm>
              <a:off x="7572600" y="4050720"/>
              <a:ext cx="234360" cy="12600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189"/>
            <p:cNvSpPr/>
            <p:nvPr/>
          </p:nvSpPr>
          <p:spPr>
            <a:xfrm>
              <a:off x="8246520" y="3539160"/>
              <a:ext cx="230760" cy="12780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6b777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190"/>
            <p:cNvSpPr/>
            <p:nvPr/>
          </p:nvSpPr>
          <p:spPr>
            <a:xfrm>
              <a:off x="7932960" y="3784680"/>
              <a:ext cx="248400" cy="10656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191"/>
            <p:cNvSpPr/>
            <p:nvPr/>
          </p:nvSpPr>
          <p:spPr>
            <a:xfrm>
              <a:off x="8510400" y="3360960"/>
              <a:ext cx="223920" cy="10656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192"/>
            <p:cNvSpPr/>
            <p:nvPr/>
          </p:nvSpPr>
          <p:spPr>
            <a:xfrm>
              <a:off x="8766000" y="3162600"/>
              <a:ext cx="223920" cy="10656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193"/>
            <p:cNvSpPr/>
            <p:nvPr/>
          </p:nvSpPr>
          <p:spPr>
            <a:xfrm>
              <a:off x="9032040" y="2978640"/>
              <a:ext cx="213480" cy="8748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a1b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194"/>
            <p:cNvSpPr/>
            <p:nvPr/>
          </p:nvSpPr>
          <p:spPr>
            <a:xfrm>
              <a:off x="9235080" y="2824560"/>
              <a:ext cx="213480" cy="8928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a1b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195"/>
            <p:cNvSpPr/>
            <p:nvPr/>
          </p:nvSpPr>
          <p:spPr>
            <a:xfrm>
              <a:off x="9446760" y="2661840"/>
              <a:ext cx="214920" cy="943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a1b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196"/>
            <p:cNvSpPr/>
            <p:nvPr/>
          </p:nvSpPr>
          <p:spPr>
            <a:xfrm>
              <a:off x="5696640" y="7128000"/>
              <a:ext cx="349920" cy="18540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197"/>
            <p:cNvSpPr/>
            <p:nvPr/>
          </p:nvSpPr>
          <p:spPr>
            <a:xfrm>
              <a:off x="6389640" y="6465960"/>
              <a:ext cx="342720" cy="19440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198"/>
            <p:cNvSpPr/>
            <p:nvPr/>
          </p:nvSpPr>
          <p:spPr>
            <a:xfrm>
              <a:off x="8353080" y="6487200"/>
              <a:ext cx="351360" cy="18540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43494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199"/>
            <p:cNvSpPr/>
            <p:nvPr/>
          </p:nvSpPr>
          <p:spPr>
            <a:xfrm>
              <a:off x="7859520" y="7089480"/>
              <a:ext cx="342720" cy="18360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43494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200"/>
            <p:cNvSpPr/>
            <p:nvPr/>
          </p:nvSpPr>
          <p:spPr>
            <a:xfrm>
              <a:off x="6980760" y="5945760"/>
              <a:ext cx="293760" cy="16812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201"/>
            <p:cNvSpPr/>
            <p:nvPr/>
          </p:nvSpPr>
          <p:spPr>
            <a:xfrm>
              <a:off x="7460640" y="5499360"/>
              <a:ext cx="291960" cy="16632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202"/>
            <p:cNvSpPr/>
            <p:nvPr/>
          </p:nvSpPr>
          <p:spPr>
            <a:xfrm>
              <a:off x="8827560" y="5984280"/>
              <a:ext cx="291960" cy="16308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43494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203"/>
            <p:cNvSpPr/>
            <p:nvPr/>
          </p:nvSpPr>
          <p:spPr>
            <a:xfrm>
              <a:off x="7967880" y="5029920"/>
              <a:ext cx="272880" cy="14508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204"/>
            <p:cNvSpPr/>
            <p:nvPr/>
          </p:nvSpPr>
          <p:spPr>
            <a:xfrm>
              <a:off x="9263160" y="5455440"/>
              <a:ext cx="293400" cy="16272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205"/>
            <p:cNvSpPr/>
            <p:nvPr/>
          </p:nvSpPr>
          <p:spPr>
            <a:xfrm>
              <a:off x="9619920" y="5040720"/>
              <a:ext cx="272880" cy="15552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43494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206"/>
            <p:cNvSpPr/>
            <p:nvPr/>
          </p:nvSpPr>
          <p:spPr>
            <a:xfrm>
              <a:off x="8351280" y="4679640"/>
              <a:ext cx="272880" cy="14508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207"/>
            <p:cNvSpPr/>
            <p:nvPr/>
          </p:nvSpPr>
          <p:spPr>
            <a:xfrm>
              <a:off x="8690760" y="4355280"/>
              <a:ext cx="272880" cy="14724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208"/>
            <p:cNvSpPr/>
            <p:nvPr/>
          </p:nvSpPr>
          <p:spPr>
            <a:xfrm>
              <a:off x="9527400" y="3592080"/>
              <a:ext cx="230760" cy="12780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209"/>
            <p:cNvSpPr/>
            <p:nvPr/>
          </p:nvSpPr>
          <p:spPr>
            <a:xfrm>
              <a:off x="9032040" y="4050720"/>
              <a:ext cx="244800" cy="12780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210"/>
            <p:cNvSpPr/>
            <p:nvPr/>
          </p:nvSpPr>
          <p:spPr>
            <a:xfrm>
              <a:off x="9306720" y="3809160"/>
              <a:ext cx="234360" cy="10980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211"/>
            <p:cNvSpPr/>
            <p:nvPr/>
          </p:nvSpPr>
          <p:spPr>
            <a:xfrm>
              <a:off x="9767160" y="3383640"/>
              <a:ext cx="223560" cy="10656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636b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212"/>
            <p:cNvSpPr/>
            <p:nvPr/>
          </p:nvSpPr>
          <p:spPr>
            <a:xfrm>
              <a:off x="9956160" y="3169800"/>
              <a:ext cx="223560" cy="10656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636b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213"/>
            <p:cNvSpPr/>
            <p:nvPr/>
          </p:nvSpPr>
          <p:spPr>
            <a:xfrm>
              <a:off x="9910440" y="4691880"/>
              <a:ext cx="272880" cy="14508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214"/>
            <p:cNvSpPr/>
            <p:nvPr/>
          </p:nvSpPr>
          <p:spPr>
            <a:xfrm>
              <a:off x="-113760" y="5015880"/>
              <a:ext cx="264240" cy="1555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215"/>
            <p:cNvSpPr/>
            <p:nvPr/>
          </p:nvSpPr>
          <p:spPr>
            <a:xfrm>
              <a:off x="3600" y="4336200"/>
              <a:ext cx="272880" cy="1555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216"/>
            <p:cNvSpPr/>
            <p:nvPr/>
          </p:nvSpPr>
          <p:spPr>
            <a:xfrm>
              <a:off x="-15480" y="2512800"/>
              <a:ext cx="185400" cy="770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217"/>
            <p:cNvSpPr/>
            <p:nvPr/>
          </p:nvSpPr>
          <p:spPr>
            <a:xfrm>
              <a:off x="9842040" y="7021440"/>
              <a:ext cx="351720" cy="18540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43494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PlaceHolder 1"/>
          <p:cNvSpPr>
            <a:spLocks noGrp="1"/>
          </p:cNvSpPr>
          <p:nvPr>
            <p:ph type="sldNum" idx="7"/>
          </p:nvPr>
        </p:nvSpPr>
        <p:spPr>
          <a:xfrm>
            <a:off x="7224480" y="6881760"/>
            <a:ext cx="2352600" cy="504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marL="216000" indent="0" algn="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446BE99D-419C-4965-8EE3-A4DCD31952C3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dt" idx="8"/>
          </p:nvPr>
        </p:nvSpPr>
        <p:spPr>
          <a:xfrm>
            <a:off x="504360" y="6881760"/>
            <a:ext cx="2351160" cy="504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ftr" idx="9"/>
          </p:nvPr>
        </p:nvSpPr>
        <p:spPr>
          <a:xfrm>
            <a:off x="3444840" y="6881760"/>
            <a:ext cx="3191040" cy="504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9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SzPct val="102834"/>
              <a:buBlip>
                <a:blip r:embed="rId2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876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spcBef>
                <a:spcPts val="876"/>
              </a:spcBef>
              <a:buSzPct val="100000"/>
              <a:buBlip>
                <a:blip r:embed="rId3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-252360">
              <a:spcBef>
                <a:spcPts val="876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68360" indent="-252360">
              <a:spcBef>
                <a:spcPts val="876"/>
              </a:spcBef>
              <a:buSzPct val="100000"/>
              <a:buBlip>
                <a:blip r:embed="rId4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68360" indent="-252360">
              <a:spcBef>
                <a:spcPts val="876"/>
              </a:spcBef>
              <a:buSzPct val="100000"/>
              <a:buBlip>
                <a:blip r:embed="rId5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68360" indent="-252360">
              <a:spcBef>
                <a:spcPts val="876"/>
              </a:spcBef>
              <a:buSzPct val="100000"/>
              <a:buBlip>
                <a:blip r:embed="rId6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8f4"/>
            </a:gs>
            <a:gs pos="100000">
              <a:srgbClr val="70797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Group 2"/>
          <p:cNvGrpSpPr/>
          <p:nvPr/>
        </p:nvGrpSpPr>
        <p:grpSpPr>
          <a:xfrm>
            <a:off x="-115560" y="1446120"/>
            <a:ext cx="10307880" cy="6204600"/>
            <a:chOff x="-115560" y="1446120"/>
            <a:chExt cx="10307880" cy="6204600"/>
          </a:xfrm>
        </p:grpSpPr>
        <p:sp>
          <p:nvSpPr>
            <p:cNvPr id="340" name="Rectangle 3"/>
            <p:cNvSpPr/>
            <p:nvPr/>
          </p:nvSpPr>
          <p:spPr>
            <a:xfrm flipV="1" rot="20798400">
              <a:off x="-25920" y="1811520"/>
              <a:ext cx="3050280" cy="1044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39960" bIns="-3996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4"/>
            <p:cNvSpPr/>
            <p:nvPr/>
          </p:nvSpPr>
          <p:spPr>
            <a:xfrm flipV="1" rot="20774400">
              <a:off x="-43560" y="1975680"/>
              <a:ext cx="3557880" cy="1008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0320" bIns="-4032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5"/>
            <p:cNvSpPr/>
            <p:nvPr/>
          </p:nvSpPr>
          <p:spPr>
            <a:xfrm flipV="1" rot="20757600">
              <a:off x="-48600" y="2099880"/>
              <a:ext cx="3930480" cy="1008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0320" bIns="-4032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6"/>
            <p:cNvSpPr/>
            <p:nvPr/>
          </p:nvSpPr>
          <p:spPr>
            <a:xfrm flipV="1" rot="20684400">
              <a:off x="-77040" y="2248920"/>
              <a:ext cx="4331520" cy="864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1760" bIns="-4176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7"/>
            <p:cNvSpPr/>
            <p:nvPr/>
          </p:nvSpPr>
          <p:spPr>
            <a:xfrm flipV="1" rot="20631600">
              <a:off x="-90360" y="2448360"/>
              <a:ext cx="4847760" cy="864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1760" bIns="-4176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8"/>
            <p:cNvSpPr/>
            <p:nvPr/>
          </p:nvSpPr>
          <p:spPr>
            <a:xfrm flipV="1" rot="20554800">
              <a:off x="-115560" y="2669040"/>
              <a:ext cx="5355360" cy="1008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0320" bIns="-4032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9"/>
            <p:cNvSpPr/>
            <p:nvPr/>
          </p:nvSpPr>
          <p:spPr>
            <a:xfrm flipV="1" rot="20466600">
              <a:off x="-164160" y="2967480"/>
              <a:ext cx="5953680" cy="864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1760" bIns="-4176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10"/>
            <p:cNvSpPr/>
            <p:nvPr/>
          </p:nvSpPr>
          <p:spPr>
            <a:xfrm flipV="1" rot="20343600">
              <a:off x="-174960" y="3263040"/>
              <a:ext cx="6561000" cy="1080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39600" bIns="-3960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11"/>
            <p:cNvSpPr/>
            <p:nvPr/>
          </p:nvSpPr>
          <p:spPr>
            <a:xfrm flipV="1" rot="20211600">
              <a:off x="-290520" y="3596040"/>
              <a:ext cx="7366320" cy="1080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39600" bIns="-3960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12"/>
            <p:cNvSpPr/>
            <p:nvPr/>
          </p:nvSpPr>
          <p:spPr>
            <a:xfrm flipV="1" rot="20103000">
              <a:off x="-376200" y="4008960"/>
              <a:ext cx="8073000" cy="864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1760" bIns="-4176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13"/>
            <p:cNvSpPr/>
            <p:nvPr/>
          </p:nvSpPr>
          <p:spPr>
            <a:xfrm flipV="1" rot="19923600">
              <a:off x="-549360" y="4582800"/>
              <a:ext cx="9100080" cy="1080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39600" bIns="-3960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14"/>
            <p:cNvSpPr/>
            <p:nvPr/>
          </p:nvSpPr>
          <p:spPr>
            <a:xfrm flipV="1" rot="19686600">
              <a:off x="14040" y="5045040"/>
              <a:ext cx="9452160" cy="1008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6a737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0320" bIns="-4032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15"/>
            <p:cNvSpPr/>
            <p:nvPr/>
          </p:nvSpPr>
          <p:spPr>
            <a:xfrm flipV="1" rot="19383600">
              <a:off x="2306520" y="5128200"/>
              <a:ext cx="8073000" cy="864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454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1760" bIns="-4176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16"/>
            <p:cNvSpPr/>
            <p:nvPr/>
          </p:nvSpPr>
          <p:spPr>
            <a:xfrm flipV="1" rot="18994200">
              <a:off x="4689720" y="5377320"/>
              <a:ext cx="6258600" cy="1044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07080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39960" bIns="-3996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17"/>
            <p:cNvSpPr/>
            <p:nvPr/>
          </p:nvSpPr>
          <p:spPr>
            <a:xfrm flipV="1" rot="18603600">
              <a:off x="7090560" y="6133320"/>
              <a:ext cx="3638520" cy="1008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0320" bIns="-40320" anchor="t" vert="eaVer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18"/>
            <p:cNvSpPr/>
            <p:nvPr/>
          </p:nvSpPr>
          <p:spPr>
            <a:xfrm flipH="1" flipV="1" rot="18391200">
              <a:off x="9393480" y="7289640"/>
              <a:ext cx="876960" cy="1008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0320" bIns="-40320" anchor="t" vert="eaVer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19"/>
            <p:cNvSpPr/>
            <p:nvPr/>
          </p:nvSpPr>
          <p:spPr>
            <a:xfrm rot="1058400">
              <a:off x="-256680" y="4133520"/>
              <a:ext cx="10581120" cy="864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1760" bIns="-41760" anchor="t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20"/>
            <p:cNvSpPr/>
            <p:nvPr/>
          </p:nvSpPr>
          <p:spPr>
            <a:xfrm rot="1563600">
              <a:off x="-347760" y="5946480"/>
              <a:ext cx="7248960" cy="864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29e9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1760" bIns="-41760" anchor="t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21"/>
            <p:cNvSpPr/>
            <p:nvPr/>
          </p:nvSpPr>
          <p:spPr>
            <a:xfrm rot="1732800">
              <a:off x="-290520" y="6346080"/>
              <a:ext cx="4907160" cy="864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29e9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1760" bIns="-41760" anchor="t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22"/>
            <p:cNvSpPr/>
            <p:nvPr/>
          </p:nvSpPr>
          <p:spPr>
            <a:xfrm rot="1968600">
              <a:off x="-194040" y="6867360"/>
              <a:ext cx="2450160" cy="1008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0320" bIns="-40320" anchor="t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23"/>
            <p:cNvSpPr/>
            <p:nvPr/>
          </p:nvSpPr>
          <p:spPr>
            <a:xfrm rot="1386000">
              <a:off x="-379800" y="5640840"/>
              <a:ext cx="9585720" cy="864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079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1760" bIns="-41760" anchor="t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24"/>
            <p:cNvSpPr/>
            <p:nvPr/>
          </p:nvSpPr>
          <p:spPr>
            <a:xfrm rot="983400">
              <a:off x="-202680" y="3729600"/>
              <a:ext cx="10532160" cy="1044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58f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39960" bIns="-39960" anchor="t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25"/>
            <p:cNvSpPr/>
            <p:nvPr/>
          </p:nvSpPr>
          <p:spPr>
            <a:xfrm flipV="1" rot="930600">
              <a:off x="137880" y="3408480"/>
              <a:ext cx="10073520" cy="900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1400" bIns="-4140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26"/>
            <p:cNvSpPr/>
            <p:nvPr/>
          </p:nvSpPr>
          <p:spPr>
            <a:xfrm rot="867600">
              <a:off x="652680" y="3156840"/>
              <a:ext cx="9581760" cy="864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1760" bIns="-41760" anchor="t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27"/>
            <p:cNvSpPr/>
            <p:nvPr/>
          </p:nvSpPr>
          <p:spPr>
            <a:xfrm rot="775200">
              <a:off x="1481760" y="2772000"/>
              <a:ext cx="8708400" cy="1044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39960" bIns="-39960" anchor="t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28"/>
            <p:cNvSpPr/>
            <p:nvPr/>
          </p:nvSpPr>
          <p:spPr>
            <a:xfrm rot="735000">
              <a:off x="1840680" y="2586960"/>
              <a:ext cx="8328600" cy="864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1760" bIns="-41760" anchor="t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29"/>
            <p:cNvSpPr/>
            <p:nvPr/>
          </p:nvSpPr>
          <p:spPr>
            <a:xfrm rot="692400">
              <a:off x="2175480" y="2413440"/>
              <a:ext cx="7975080" cy="1044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39960" bIns="-39960" anchor="t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30"/>
            <p:cNvSpPr/>
            <p:nvPr/>
          </p:nvSpPr>
          <p:spPr>
            <a:xfrm flipV="1" rot="655800">
              <a:off x="2600640" y="2286720"/>
              <a:ext cx="754992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0680" bIns="-4068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31"/>
            <p:cNvSpPr/>
            <p:nvPr/>
          </p:nvSpPr>
          <p:spPr>
            <a:xfrm flipV="1" rot="637200">
              <a:off x="2885400" y="2134800"/>
              <a:ext cx="7269840" cy="1044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39960" bIns="-3996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32"/>
            <p:cNvSpPr/>
            <p:nvPr/>
          </p:nvSpPr>
          <p:spPr>
            <a:xfrm flipV="1" rot="804000">
              <a:off x="1067400" y="2950920"/>
              <a:ext cx="9107640" cy="864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1760" bIns="-4176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33"/>
            <p:cNvSpPr/>
            <p:nvPr/>
          </p:nvSpPr>
          <p:spPr>
            <a:xfrm flipV="1" rot="1273800">
              <a:off x="-358560" y="5211000"/>
              <a:ext cx="10763280" cy="864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1760" bIns="-4176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34"/>
            <p:cNvSpPr/>
            <p:nvPr/>
          </p:nvSpPr>
          <p:spPr>
            <a:xfrm flipV="1" rot="1170000">
              <a:off x="-305640" y="4664160"/>
              <a:ext cx="10685520" cy="828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67f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42120" bIns="-42120" anchor="t" rot="10800000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35"/>
            <p:cNvSpPr/>
            <p:nvPr/>
          </p:nvSpPr>
          <p:spPr>
            <a:xfrm>
              <a:off x="1293120" y="5882400"/>
              <a:ext cx="293760" cy="168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36"/>
            <p:cNvSpPr/>
            <p:nvPr/>
          </p:nvSpPr>
          <p:spPr>
            <a:xfrm>
              <a:off x="411480" y="5383440"/>
              <a:ext cx="293760" cy="1630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37"/>
            <p:cNvSpPr/>
            <p:nvPr/>
          </p:nvSpPr>
          <p:spPr>
            <a:xfrm>
              <a:off x="276480" y="6395040"/>
              <a:ext cx="342720" cy="1854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38"/>
            <p:cNvSpPr/>
            <p:nvPr/>
          </p:nvSpPr>
          <p:spPr>
            <a:xfrm>
              <a:off x="3633120" y="4660560"/>
              <a:ext cx="272880" cy="1450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39"/>
            <p:cNvSpPr/>
            <p:nvPr/>
          </p:nvSpPr>
          <p:spPr>
            <a:xfrm>
              <a:off x="2138400" y="5387040"/>
              <a:ext cx="299160" cy="1659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40"/>
            <p:cNvSpPr/>
            <p:nvPr/>
          </p:nvSpPr>
          <p:spPr>
            <a:xfrm>
              <a:off x="2949120" y="5004000"/>
              <a:ext cx="272880" cy="1569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41"/>
            <p:cNvSpPr/>
            <p:nvPr/>
          </p:nvSpPr>
          <p:spPr>
            <a:xfrm>
              <a:off x="1310760" y="4972320"/>
              <a:ext cx="264240" cy="1558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42"/>
            <p:cNvSpPr/>
            <p:nvPr/>
          </p:nvSpPr>
          <p:spPr>
            <a:xfrm>
              <a:off x="640440" y="4651920"/>
              <a:ext cx="262440" cy="1472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43"/>
            <p:cNvSpPr/>
            <p:nvPr/>
          </p:nvSpPr>
          <p:spPr>
            <a:xfrm>
              <a:off x="2049120" y="4627440"/>
              <a:ext cx="272880" cy="1450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44"/>
            <p:cNvSpPr/>
            <p:nvPr/>
          </p:nvSpPr>
          <p:spPr>
            <a:xfrm>
              <a:off x="4200480" y="4352760"/>
              <a:ext cx="272880" cy="1450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45"/>
            <p:cNvSpPr/>
            <p:nvPr/>
          </p:nvSpPr>
          <p:spPr>
            <a:xfrm>
              <a:off x="3341160" y="4053600"/>
              <a:ext cx="230760" cy="1274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46"/>
            <p:cNvSpPr/>
            <p:nvPr/>
          </p:nvSpPr>
          <p:spPr>
            <a:xfrm>
              <a:off x="3943080" y="3773520"/>
              <a:ext cx="234000" cy="106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47"/>
            <p:cNvSpPr/>
            <p:nvPr/>
          </p:nvSpPr>
          <p:spPr>
            <a:xfrm>
              <a:off x="4796640" y="4037400"/>
              <a:ext cx="245160" cy="1274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48"/>
            <p:cNvSpPr/>
            <p:nvPr/>
          </p:nvSpPr>
          <p:spPr>
            <a:xfrm>
              <a:off x="4919400" y="3325680"/>
              <a:ext cx="225720" cy="106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49"/>
            <p:cNvSpPr/>
            <p:nvPr/>
          </p:nvSpPr>
          <p:spPr>
            <a:xfrm>
              <a:off x="6510600" y="3139920"/>
              <a:ext cx="223560" cy="106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50"/>
            <p:cNvSpPr/>
            <p:nvPr/>
          </p:nvSpPr>
          <p:spPr>
            <a:xfrm>
              <a:off x="6172920" y="3322080"/>
              <a:ext cx="230760" cy="1116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51"/>
            <p:cNvSpPr/>
            <p:nvPr/>
          </p:nvSpPr>
          <p:spPr>
            <a:xfrm>
              <a:off x="5360400" y="3115080"/>
              <a:ext cx="223920" cy="1119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52"/>
            <p:cNvSpPr/>
            <p:nvPr/>
          </p:nvSpPr>
          <p:spPr>
            <a:xfrm>
              <a:off x="5733360" y="3546000"/>
              <a:ext cx="230760" cy="1274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53"/>
            <p:cNvSpPr/>
            <p:nvPr/>
          </p:nvSpPr>
          <p:spPr>
            <a:xfrm>
              <a:off x="5295600" y="3783960"/>
              <a:ext cx="232920" cy="1116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54"/>
            <p:cNvSpPr/>
            <p:nvPr/>
          </p:nvSpPr>
          <p:spPr>
            <a:xfrm>
              <a:off x="2744280" y="4296600"/>
              <a:ext cx="262080" cy="1627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55"/>
            <p:cNvSpPr/>
            <p:nvPr/>
          </p:nvSpPr>
          <p:spPr>
            <a:xfrm>
              <a:off x="3258360" y="3552840"/>
              <a:ext cx="243000" cy="106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56"/>
            <p:cNvSpPr/>
            <p:nvPr/>
          </p:nvSpPr>
          <p:spPr>
            <a:xfrm>
              <a:off x="2646000" y="3810240"/>
              <a:ext cx="243000" cy="106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57"/>
            <p:cNvSpPr/>
            <p:nvPr/>
          </p:nvSpPr>
          <p:spPr>
            <a:xfrm>
              <a:off x="2082600" y="4048200"/>
              <a:ext cx="234360" cy="125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58"/>
            <p:cNvSpPr/>
            <p:nvPr/>
          </p:nvSpPr>
          <p:spPr>
            <a:xfrm>
              <a:off x="2017800" y="3586320"/>
              <a:ext cx="234360" cy="106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59"/>
            <p:cNvSpPr/>
            <p:nvPr/>
          </p:nvSpPr>
          <p:spPr>
            <a:xfrm>
              <a:off x="1996920" y="3159360"/>
              <a:ext cx="223560" cy="106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60"/>
            <p:cNvSpPr/>
            <p:nvPr/>
          </p:nvSpPr>
          <p:spPr>
            <a:xfrm>
              <a:off x="2623680" y="3349800"/>
              <a:ext cx="223560" cy="106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61"/>
            <p:cNvSpPr/>
            <p:nvPr/>
          </p:nvSpPr>
          <p:spPr>
            <a:xfrm>
              <a:off x="3155400" y="3155760"/>
              <a:ext cx="223920" cy="106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62"/>
            <p:cNvSpPr/>
            <p:nvPr/>
          </p:nvSpPr>
          <p:spPr>
            <a:xfrm>
              <a:off x="3776760" y="3337920"/>
              <a:ext cx="223560" cy="1116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63"/>
            <p:cNvSpPr/>
            <p:nvPr/>
          </p:nvSpPr>
          <p:spPr>
            <a:xfrm>
              <a:off x="4254120" y="3130920"/>
              <a:ext cx="223920" cy="1116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64"/>
            <p:cNvSpPr/>
            <p:nvPr/>
          </p:nvSpPr>
          <p:spPr>
            <a:xfrm>
              <a:off x="820800" y="3560040"/>
              <a:ext cx="234000" cy="1270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65"/>
            <p:cNvSpPr/>
            <p:nvPr/>
          </p:nvSpPr>
          <p:spPr>
            <a:xfrm>
              <a:off x="117360" y="3794400"/>
              <a:ext cx="234360" cy="1274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66"/>
            <p:cNvSpPr/>
            <p:nvPr/>
          </p:nvSpPr>
          <p:spPr>
            <a:xfrm>
              <a:off x="1394640" y="3357000"/>
              <a:ext cx="223560" cy="1116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67"/>
            <p:cNvSpPr/>
            <p:nvPr/>
          </p:nvSpPr>
          <p:spPr>
            <a:xfrm>
              <a:off x="794160" y="3148560"/>
              <a:ext cx="223920" cy="1116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68"/>
            <p:cNvSpPr/>
            <p:nvPr/>
          </p:nvSpPr>
          <p:spPr>
            <a:xfrm>
              <a:off x="195840" y="3330720"/>
              <a:ext cx="223920" cy="106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69"/>
            <p:cNvSpPr/>
            <p:nvPr/>
          </p:nvSpPr>
          <p:spPr>
            <a:xfrm>
              <a:off x="754200" y="4069440"/>
              <a:ext cx="248400" cy="106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70"/>
            <p:cNvSpPr/>
            <p:nvPr/>
          </p:nvSpPr>
          <p:spPr>
            <a:xfrm>
              <a:off x="1423080" y="3815280"/>
              <a:ext cx="234000" cy="106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71"/>
            <p:cNvSpPr/>
            <p:nvPr/>
          </p:nvSpPr>
          <p:spPr>
            <a:xfrm>
              <a:off x="1378800" y="4330080"/>
              <a:ext cx="272880" cy="1555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Oval 72"/>
            <p:cNvSpPr/>
            <p:nvPr/>
          </p:nvSpPr>
          <p:spPr>
            <a:xfrm>
              <a:off x="4450320" y="3530520"/>
              <a:ext cx="245160" cy="125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73"/>
            <p:cNvSpPr/>
            <p:nvPr/>
          </p:nvSpPr>
          <p:spPr>
            <a:xfrm>
              <a:off x="2548080" y="2979000"/>
              <a:ext cx="214920" cy="943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74"/>
            <p:cNvSpPr/>
            <p:nvPr/>
          </p:nvSpPr>
          <p:spPr>
            <a:xfrm>
              <a:off x="3055680" y="2802240"/>
              <a:ext cx="214920" cy="87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75"/>
            <p:cNvSpPr/>
            <p:nvPr/>
          </p:nvSpPr>
          <p:spPr>
            <a:xfrm>
              <a:off x="2421720" y="2639520"/>
              <a:ext cx="215280" cy="87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76"/>
            <p:cNvSpPr/>
            <p:nvPr/>
          </p:nvSpPr>
          <p:spPr>
            <a:xfrm>
              <a:off x="1911240" y="2795400"/>
              <a:ext cx="214920" cy="88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77"/>
            <p:cNvSpPr/>
            <p:nvPr/>
          </p:nvSpPr>
          <p:spPr>
            <a:xfrm>
              <a:off x="1384560" y="2961360"/>
              <a:ext cx="216360" cy="946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78"/>
            <p:cNvSpPr/>
            <p:nvPr/>
          </p:nvSpPr>
          <p:spPr>
            <a:xfrm>
              <a:off x="3517560" y="2649960"/>
              <a:ext cx="214920" cy="87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79"/>
            <p:cNvSpPr/>
            <p:nvPr/>
          </p:nvSpPr>
          <p:spPr>
            <a:xfrm>
              <a:off x="3650760" y="2971800"/>
              <a:ext cx="213480" cy="87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80"/>
            <p:cNvSpPr/>
            <p:nvPr/>
          </p:nvSpPr>
          <p:spPr>
            <a:xfrm>
              <a:off x="4102200" y="2805480"/>
              <a:ext cx="214920" cy="87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81"/>
            <p:cNvSpPr/>
            <p:nvPr/>
          </p:nvSpPr>
          <p:spPr>
            <a:xfrm>
              <a:off x="4695480" y="2954520"/>
              <a:ext cx="214920" cy="89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82"/>
            <p:cNvSpPr/>
            <p:nvPr/>
          </p:nvSpPr>
          <p:spPr>
            <a:xfrm>
              <a:off x="1408680" y="2649960"/>
              <a:ext cx="213480" cy="87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83"/>
            <p:cNvSpPr/>
            <p:nvPr/>
          </p:nvSpPr>
          <p:spPr>
            <a:xfrm>
              <a:off x="864360" y="2798640"/>
              <a:ext cx="213480" cy="87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84"/>
            <p:cNvSpPr/>
            <p:nvPr/>
          </p:nvSpPr>
          <p:spPr>
            <a:xfrm>
              <a:off x="397080" y="2642760"/>
              <a:ext cx="215280" cy="87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85"/>
            <p:cNvSpPr/>
            <p:nvPr/>
          </p:nvSpPr>
          <p:spPr>
            <a:xfrm>
              <a:off x="272880" y="2975400"/>
              <a:ext cx="215280" cy="87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86"/>
            <p:cNvSpPr/>
            <p:nvPr/>
          </p:nvSpPr>
          <p:spPr>
            <a:xfrm>
              <a:off x="5050800" y="2795400"/>
              <a:ext cx="213480" cy="87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87"/>
            <p:cNvSpPr/>
            <p:nvPr/>
          </p:nvSpPr>
          <p:spPr>
            <a:xfrm>
              <a:off x="5387040" y="2648160"/>
              <a:ext cx="216360" cy="89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88"/>
            <p:cNvSpPr/>
            <p:nvPr/>
          </p:nvSpPr>
          <p:spPr>
            <a:xfrm>
              <a:off x="5721120" y="2958120"/>
              <a:ext cx="217080" cy="89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89"/>
            <p:cNvSpPr/>
            <p:nvPr/>
          </p:nvSpPr>
          <p:spPr>
            <a:xfrm>
              <a:off x="6041520" y="2802240"/>
              <a:ext cx="213480" cy="87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90"/>
            <p:cNvSpPr/>
            <p:nvPr/>
          </p:nvSpPr>
          <p:spPr>
            <a:xfrm>
              <a:off x="6387840" y="2639520"/>
              <a:ext cx="214920" cy="87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91"/>
            <p:cNvSpPr/>
            <p:nvPr/>
          </p:nvSpPr>
          <p:spPr>
            <a:xfrm>
              <a:off x="7437960" y="2651760"/>
              <a:ext cx="213480" cy="943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92"/>
            <p:cNvSpPr/>
            <p:nvPr/>
          </p:nvSpPr>
          <p:spPr>
            <a:xfrm>
              <a:off x="6825240" y="2980800"/>
              <a:ext cx="223920" cy="87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Oval 93"/>
            <p:cNvSpPr/>
            <p:nvPr/>
          </p:nvSpPr>
          <p:spPr>
            <a:xfrm>
              <a:off x="7149240" y="2818080"/>
              <a:ext cx="223920" cy="87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94"/>
            <p:cNvSpPr/>
            <p:nvPr/>
          </p:nvSpPr>
          <p:spPr>
            <a:xfrm>
              <a:off x="2241720" y="6396840"/>
              <a:ext cx="343080" cy="1940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95"/>
            <p:cNvSpPr/>
            <p:nvPr/>
          </p:nvSpPr>
          <p:spPr>
            <a:xfrm>
              <a:off x="1235520" y="7029000"/>
              <a:ext cx="334080" cy="195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96"/>
            <p:cNvSpPr/>
            <p:nvPr/>
          </p:nvSpPr>
          <p:spPr>
            <a:xfrm>
              <a:off x="3899160" y="5411520"/>
              <a:ext cx="299160" cy="16596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97"/>
            <p:cNvSpPr/>
            <p:nvPr/>
          </p:nvSpPr>
          <p:spPr>
            <a:xfrm>
              <a:off x="4555440" y="5021280"/>
              <a:ext cx="272880" cy="1555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98"/>
            <p:cNvSpPr/>
            <p:nvPr/>
          </p:nvSpPr>
          <p:spPr>
            <a:xfrm>
              <a:off x="5085720" y="4672800"/>
              <a:ext cx="272880" cy="1472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99"/>
            <p:cNvSpPr/>
            <p:nvPr/>
          </p:nvSpPr>
          <p:spPr>
            <a:xfrm>
              <a:off x="5682600" y="4298400"/>
              <a:ext cx="262080" cy="16308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100"/>
            <p:cNvSpPr/>
            <p:nvPr/>
          </p:nvSpPr>
          <p:spPr>
            <a:xfrm>
              <a:off x="3150000" y="5884200"/>
              <a:ext cx="293760" cy="16596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101"/>
            <p:cNvSpPr/>
            <p:nvPr/>
          </p:nvSpPr>
          <p:spPr>
            <a:xfrm>
              <a:off x="6144480" y="4032360"/>
              <a:ext cx="234360" cy="1274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102"/>
            <p:cNvSpPr/>
            <p:nvPr/>
          </p:nvSpPr>
          <p:spPr>
            <a:xfrm>
              <a:off x="6963840" y="3528360"/>
              <a:ext cx="230760" cy="1274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103"/>
            <p:cNvSpPr/>
            <p:nvPr/>
          </p:nvSpPr>
          <p:spPr>
            <a:xfrm>
              <a:off x="6566400" y="3780360"/>
              <a:ext cx="230760" cy="10656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104"/>
            <p:cNvSpPr/>
            <p:nvPr/>
          </p:nvSpPr>
          <p:spPr>
            <a:xfrm>
              <a:off x="7306560" y="3325680"/>
              <a:ext cx="223560" cy="10656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105"/>
            <p:cNvSpPr/>
            <p:nvPr/>
          </p:nvSpPr>
          <p:spPr>
            <a:xfrm>
              <a:off x="7589880" y="3148560"/>
              <a:ext cx="230760" cy="11160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Oval 106"/>
            <p:cNvSpPr/>
            <p:nvPr/>
          </p:nvSpPr>
          <p:spPr>
            <a:xfrm>
              <a:off x="7882560" y="2979000"/>
              <a:ext cx="213480" cy="943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a1b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107"/>
            <p:cNvSpPr/>
            <p:nvPr/>
          </p:nvSpPr>
          <p:spPr>
            <a:xfrm>
              <a:off x="8155440" y="2809080"/>
              <a:ext cx="213480" cy="871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a1b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108"/>
            <p:cNvSpPr/>
            <p:nvPr/>
          </p:nvSpPr>
          <p:spPr>
            <a:xfrm>
              <a:off x="8404200" y="2649960"/>
              <a:ext cx="223560" cy="8856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109"/>
            <p:cNvSpPr/>
            <p:nvPr/>
          </p:nvSpPr>
          <p:spPr>
            <a:xfrm>
              <a:off x="8626320" y="2508120"/>
              <a:ext cx="194040" cy="8748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110"/>
            <p:cNvSpPr/>
            <p:nvPr/>
          </p:nvSpPr>
          <p:spPr>
            <a:xfrm>
              <a:off x="6709680" y="2506320"/>
              <a:ext cx="195840" cy="87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111"/>
            <p:cNvSpPr/>
            <p:nvPr/>
          </p:nvSpPr>
          <p:spPr>
            <a:xfrm>
              <a:off x="5748840" y="2506320"/>
              <a:ext cx="195840" cy="87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112"/>
            <p:cNvSpPr/>
            <p:nvPr/>
          </p:nvSpPr>
          <p:spPr>
            <a:xfrm>
              <a:off x="5199480" y="2394360"/>
              <a:ext cx="194040" cy="943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113"/>
            <p:cNvSpPr/>
            <p:nvPr/>
          </p:nvSpPr>
          <p:spPr>
            <a:xfrm>
              <a:off x="5514480" y="2264760"/>
              <a:ext cx="195840" cy="87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114"/>
            <p:cNvSpPr/>
            <p:nvPr/>
          </p:nvSpPr>
          <p:spPr>
            <a:xfrm>
              <a:off x="5283360" y="2051280"/>
              <a:ext cx="195840" cy="87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15"/>
            <p:cNvSpPr/>
            <p:nvPr/>
          </p:nvSpPr>
          <p:spPr>
            <a:xfrm>
              <a:off x="4273560" y="2397960"/>
              <a:ext cx="195840" cy="88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6"/>
            <p:cNvSpPr/>
            <p:nvPr/>
          </p:nvSpPr>
          <p:spPr>
            <a:xfrm>
              <a:off x="4025160" y="2138760"/>
              <a:ext cx="195840" cy="943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117"/>
            <p:cNvSpPr/>
            <p:nvPr/>
          </p:nvSpPr>
          <p:spPr>
            <a:xfrm>
              <a:off x="3664440" y="2250720"/>
              <a:ext cx="195840" cy="89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118"/>
            <p:cNvSpPr/>
            <p:nvPr/>
          </p:nvSpPr>
          <p:spPr>
            <a:xfrm>
              <a:off x="3897360" y="2527560"/>
              <a:ext cx="195840" cy="87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119"/>
            <p:cNvSpPr/>
            <p:nvPr/>
          </p:nvSpPr>
          <p:spPr>
            <a:xfrm>
              <a:off x="1938960" y="2495520"/>
              <a:ext cx="195840" cy="87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120"/>
            <p:cNvSpPr/>
            <p:nvPr/>
          </p:nvSpPr>
          <p:spPr>
            <a:xfrm>
              <a:off x="1067400" y="2250720"/>
              <a:ext cx="194400" cy="89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121"/>
            <p:cNvSpPr/>
            <p:nvPr/>
          </p:nvSpPr>
          <p:spPr>
            <a:xfrm>
              <a:off x="532080" y="2380320"/>
              <a:ext cx="195840" cy="89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122"/>
            <p:cNvSpPr/>
            <p:nvPr/>
          </p:nvSpPr>
          <p:spPr>
            <a:xfrm>
              <a:off x="271080" y="2023560"/>
              <a:ext cx="195840" cy="87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123"/>
            <p:cNvSpPr/>
            <p:nvPr/>
          </p:nvSpPr>
          <p:spPr>
            <a:xfrm>
              <a:off x="7940160" y="2392560"/>
              <a:ext cx="185400" cy="78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124"/>
            <p:cNvSpPr/>
            <p:nvPr/>
          </p:nvSpPr>
          <p:spPr>
            <a:xfrm>
              <a:off x="7711200" y="2523960"/>
              <a:ext cx="183600" cy="766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125"/>
            <p:cNvSpPr/>
            <p:nvPr/>
          </p:nvSpPr>
          <p:spPr>
            <a:xfrm>
              <a:off x="6984720" y="2377080"/>
              <a:ext cx="185040" cy="78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126"/>
            <p:cNvSpPr/>
            <p:nvPr/>
          </p:nvSpPr>
          <p:spPr>
            <a:xfrm>
              <a:off x="6064200" y="2377080"/>
              <a:ext cx="185400" cy="78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127"/>
            <p:cNvSpPr/>
            <p:nvPr/>
          </p:nvSpPr>
          <p:spPr>
            <a:xfrm>
              <a:off x="4989600" y="2152800"/>
              <a:ext cx="185040" cy="766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128"/>
            <p:cNvSpPr/>
            <p:nvPr/>
          </p:nvSpPr>
          <p:spPr>
            <a:xfrm>
              <a:off x="4685040" y="1944360"/>
              <a:ext cx="185400" cy="766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129"/>
            <p:cNvSpPr/>
            <p:nvPr/>
          </p:nvSpPr>
          <p:spPr>
            <a:xfrm>
              <a:off x="5001480" y="1832400"/>
              <a:ext cx="185400" cy="766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130"/>
            <p:cNvSpPr/>
            <p:nvPr/>
          </p:nvSpPr>
          <p:spPr>
            <a:xfrm>
              <a:off x="3396960" y="1823760"/>
              <a:ext cx="185040" cy="78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131"/>
            <p:cNvSpPr/>
            <p:nvPr/>
          </p:nvSpPr>
          <p:spPr>
            <a:xfrm>
              <a:off x="1902240" y="2238480"/>
              <a:ext cx="180000" cy="766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132"/>
            <p:cNvSpPr/>
            <p:nvPr/>
          </p:nvSpPr>
          <p:spPr>
            <a:xfrm>
              <a:off x="1445400" y="2366280"/>
              <a:ext cx="185040" cy="766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133"/>
            <p:cNvSpPr/>
            <p:nvPr/>
          </p:nvSpPr>
          <p:spPr>
            <a:xfrm>
              <a:off x="937800" y="2502720"/>
              <a:ext cx="185040" cy="766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134"/>
            <p:cNvSpPr/>
            <p:nvPr/>
          </p:nvSpPr>
          <p:spPr>
            <a:xfrm>
              <a:off x="1109520" y="1858680"/>
              <a:ext cx="185400" cy="78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135"/>
            <p:cNvSpPr/>
            <p:nvPr/>
          </p:nvSpPr>
          <p:spPr>
            <a:xfrm>
              <a:off x="2693520" y="1841400"/>
              <a:ext cx="185040" cy="78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136"/>
            <p:cNvSpPr/>
            <p:nvPr/>
          </p:nvSpPr>
          <p:spPr>
            <a:xfrm>
              <a:off x="1958400" y="1864080"/>
              <a:ext cx="183600" cy="78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137"/>
            <p:cNvSpPr/>
            <p:nvPr/>
          </p:nvSpPr>
          <p:spPr>
            <a:xfrm>
              <a:off x="7228080" y="2250720"/>
              <a:ext cx="195480" cy="78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138"/>
            <p:cNvSpPr/>
            <p:nvPr/>
          </p:nvSpPr>
          <p:spPr>
            <a:xfrm>
              <a:off x="6083640" y="2039400"/>
              <a:ext cx="195480" cy="766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139"/>
            <p:cNvSpPr/>
            <p:nvPr/>
          </p:nvSpPr>
          <p:spPr>
            <a:xfrm>
              <a:off x="5799600" y="2154600"/>
              <a:ext cx="195840" cy="78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140"/>
            <p:cNvSpPr/>
            <p:nvPr/>
          </p:nvSpPr>
          <p:spPr>
            <a:xfrm>
              <a:off x="5553000" y="1950120"/>
              <a:ext cx="195840" cy="766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141"/>
            <p:cNvSpPr/>
            <p:nvPr/>
          </p:nvSpPr>
          <p:spPr>
            <a:xfrm>
              <a:off x="4191480" y="1843200"/>
              <a:ext cx="195840" cy="78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142"/>
            <p:cNvSpPr/>
            <p:nvPr/>
          </p:nvSpPr>
          <p:spPr>
            <a:xfrm>
              <a:off x="4844520" y="2534040"/>
              <a:ext cx="194040" cy="766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143"/>
            <p:cNvSpPr/>
            <p:nvPr/>
          </p:nvSpPr>
          <p:spPr>
            <a:xfrm>
              <a:off x="4646520" y="2268360"/>
              <a:ext cx="195840" cy="78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144"/>
            <p:cNvSpPr/>
            <p:nvPr/>
          </p:nvSpPr>
          <p:spPr>
            <a:xfrm>
              <a:off x="4375440" y="2032200"/>
              <a:ext cx="195840" cy="78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145"/>
            <p:cNvSpPr/>
            <p:nvPr/>
          </p:nvSpPr>
          <p:spPr>
            <a:xfrm>
              <a:off x="3886920" y="1930680"/>
              <a:ext cx="195840" cy="766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146"/>
            <p:cNvSpPr/>
            <p:nvPr/>
          </p:nvSpPr>
          <p:spPr>
            <a:xfrm>
              <a:off x="3548880" y="2037240"/>
              <a:ext cx="194400" cy="766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147"/>
            <p:cNvSpPr/>
            <p:nvPr/>
          </p:nvSpPr>
          <p:spPr>
            <a:xfrm>
              <a:off x="3279600" y="2377080"/>
              <a:ext cx="195840" cy="78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148"/>
            <p:cNvSpPr/>
            <p:nvPr/>
          </p:nvSpPr>
          <p:spPr>
            <a:xfrm>
              <a:off x="3164040" y="2144160"/>
              <a:ext cx="195840" cy="766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149"/>
            <p:cNvSpPr/>
            <p:nvPr/>
          </p:nvSpPr>
          <p:spPr>
            <a:xfrm>
              <a:off x="3039840" y="1925280"/>
              <a:ext cx="195840" cy="78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150"/>
            <p:cNvSpPr/>
            <p:nvPr/>
          </p:nvSpPr>
          <p:spPr>
            <a:xfrm>
              <a:off x="2768760" y="2259720"/>
              <a:ext cx="195480" cy="78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Oval 151"/>
            <p:cNvSpPr/>
            <p:nvPr/>
          </p:nvSpPr>
          <p:spPr>
            <a:xfrm>
              <a:off x="2411640" y="2354040"/>
              <a:ext cx="195840" cy="78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Oval 152"/>
            <p:cNvSpPr/>
            <p:nvPr/>
          </p:nvSpPr>
          <p:spPr>
            <a:xfrm>
              <a:off x="2674080" y="2026800"/>
              <a:ext cx="195840" cy="766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Oval 153"/>
            <p:cNvSpPr/>
            <p:nvPr/>
          </p:nvSpPr>
          <p:spPr>
            <a:xfrm>
              <a:off x="2262600" y="2142360"/>
              <a:ext cx="195840" cy="766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Oval 154"/>
            <p:cNvSpPr/>
            <p:nvPr/>
          </p:nvSpPr>
          <p:spPr>
            <a:xfrm>
              <a:off x="2297520" y="1950120"/>
              <a:ext cx="195840" cy="766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Oval 155"/>
            <p:cNvSpPr/>
            <p:nvPr/>
          </p:nvSpPr>
          <p:spPr>
            <a:xfrm>
              <a:off x="1891800" y="2044440"/>
              <a:ext cx="194400" cy="78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Oval 156"/>
            <p:cNvSpPr/>
            <p:nvPr/>
          </p:nvSpPr>
          <p:spPr>
            <a:xfrm>
              <a:off x="1532880" y="1965600"/>
              <a:ext cx="195840" cy="78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Oval 157"/>
            <p:cNvSpPr/>
            <p:nvPr/>
          </p:nvSpPr>
          <p:spPr>
            <a:xfrm>
              <a:off x="1529640" y="2131920"/>
              <a:ext cx="194040" cy="78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Oval 158"/>
            <p:cNvSpPr/>
            <p:nvPr/>
          </p:nvSpPr>
          <p:spPr>
            <a:xfrm>
              <a:off x="1188360" y="2051280"/>
              <a:ext cx="195840" cy="766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Oval 159"/>
            <p:cNvSpPr/>
            <p:nvPr/>
          </p:nvSpPr>
          <p:spPr>
            <a:xfrm>
              <a:off x="717120" y="2160000"/>
              <a:ext cx="195840" cy="766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Oval 160"/>
            <p:cNvSpPr/>
            <p:nvPr/>
          </p:nvSpPr>
          <p:spPr>
            <a:xfrm>
              <a:off x="757800" y="1928880"/>
              <a:ext cx="195840" cy="766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Oval 161"/>
            <p:cNvSpPr/>
            <p:nvPr/>
          </p:nvSpPr>
          <p:spPr>
            <a:xfrm>
              <a:off x="206640" y="2300040"/>
              <a:ext cx="195840" cy="766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Oval 162"/>
            <p:cNvSpPr/>
            <p:nvPr/>
          </p:nvSpPr>
          <p:spPr>
            <a:xfrm>
              <a:off x="1500120" y="1755360"/>
              <a:ext cx="176400" cy="666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Oval 163"/>
            <p:cNvSpPr/>
            <p:nvPr/>
          </p:nvSpPr>
          <p:spPr>
            <a:xfrm>
              <a:off x="2345040" y="1776600"/>
              <a:ext cx="180360" cy="680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Oval 164"/>
            <p:cNvSpPr/>
            <p:nvPr/>
          </p:nvSpPr>
          <p:spPr>
            <a:xfrm>
              <a:off x="3041640" y="1767960"/>
              <a:ext cx="180000" cy="666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Oval 165"/>
            <p:cNvSpPr/>
            <p:nvPr/>
          </p:nvSpPr>
          <p:spPr>
            <a:xfrm>
              <a:off x="3701520" y="1755360"/>
              <a:ext cx="174960" cy="680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Oval 166"/>
            <p:cNvSpPr/>
            <p:nvPr/>
          </p:nvSpPr>
          <p:spPr>
            <a:xfrm>
              <a:off x="4058640" y="1650600"/>
              <a:ext cx="176400" cy="680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Oval 167"/>
            <p:cNvSpPr/>
            <p:nvPr/>
          </p:nvSpPr>
          <p:spPr>
            <a:xfrm>
              <a:off x="4550400" y="1745280"/>
              <a:ext cx="180000" cy="680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Oval 168"/>
            <p:cNvSpPr/>
            <p:nvPr/>
          </p:nvSpPr>
          <p:spPr>
            <a:xfrm>
              <a:off x="2915640" y="2489040"/>
              <a:ext cx="185040" cy="89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Oval 169"/>
            <p:cNvSpPr/>
            <p:nvPr/>
          </p:nvSpPr>
          <p:spPr>
            <a:xfrm>
              <a:off x="4473360" y="2656800"/>
              <a:ext cx="214920" cy="89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Oval 170"/>
            <p:cNvSpPr/>
            <p:nvPr/>
          </p:nvSpPr>
          <p:spPr>
            <a:xfrm>
              <a:off x="6332040" y="2256120"/>
              <a:ext cx="195840" cy="89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Oval 171"/>
            <p:cNvSpPr/>
            <p:nvPr/>
          </p:nvSpPr>
          <p:spPr>
            <a:xfrm>
              <a:off x="6632640" y="2125080"/>
              <a:ext cx="195840" cy="88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Oval 172"/>
            <p:cNvSpPr/>
            <p:nvPr/>
          </p:nvSpPr>
          <p:spPr>
            <a:xfrm>
              <a:off x="3732840" y="1592640"/>
              <a:ext cx="138240" cy="594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Oval 173"/>
            <p:cNvSpPr/>
            <p:nvPr/>
          </p:nvSpPr>
          <p:spPr>
            <a:xfrm>
              <a:off x="2210400" y="1592640"/>
              <a:ext cx="137880" cy="594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Oval 174"/>
            <p:cNvSpPr/>
            <p:nvPr/>
          </p:nvSpPr>
          <p:spPr>
            <a:xfrm>
              <a:off x="2572560" y="1524600"/>
              <a:ext cx="137880" cy="594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Oval 175"/>
            <p:cNvSpPr/>
            <p:nvPr/>
          </p:nvSpPr>
          <p:spPr>
            <a:xfrm>
              <a:off x="2885760" y="1446120"/>
              <a:ext cx="145080" cy="594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Oval 176"/>
            <p:cNvSpPr/>
            <p:nvPr/>
          </p:nvSpPr>
          <p:spPr>
            <a:xfrm>
              <a:off x="3354840" y="1524600"/>
              <a:ext cx="145080" cy="594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Oval 177"/>
            <p:cNvSpPr/>
            <p:nvPr/>
          </p:nvSpPr>
          <p:spPr>
            <a:xfrm>
              <a:off x="3008520" y="1618920"/>
              <a:ext cx="145080" cy="594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Oval 178"/>
            <p:cNvSpPr/>
            <p:nvPr/>
          </p:nvSpPr>
          <p:spPr>
            <a:xfrm>
              <a:off x="3346200" y="1678680"/>
              <a:ext cx="165960" cy="766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Oval 179"/>
            <p:cNvSpPr/>
            <p:nvPr/>
          </p:nvSpPr>
          <p:spPr>
            <a:xfrm>
              <a:off x="2694960" y="1687320"/>
              <a:ext cx="155880" cy="78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Oval 180"/>
            <p:cNvSpPr/>
            <p:nvPr/>
          </p:nvSpPr>
          <p:spPr>
            <a:xfrm>
              <a:off x="1881360" y="1671480"/>
              <a:ext cx="180000" cy="78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Oval 181"/>
            <p:cNvSpPr/>
            <p:nvPr/>
          </p:nvSpPr>
          <p:spPr>
            <a:xfrm>
              <a:off x="3468600" y="7051320"/>
              <a:ext cx="341280" cy="18360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Oval 182"/>
            <p:cNvSpPr/>
            <p:nvPr/>
          </p:nvSpPr>
          <p:spPr>
            <a:xfrm>
              <a:off x="4303440" y="6428520"/>
              <a:ext cx="342720" cy="195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Oval 183"/>
            <p:cNvSpPr/>
            <p:nvPr/>
          </p:nvSpPr>
          <p:spPr>
            <a:xfrm>
              <a:off x="5665320" y="5465880"/>
              <a:ext cx="293760" cy="1627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Oval 184"/>
            <p:cNvSpPr/>
            <p:nvPr/>
          </p:nvSpPr>
          <p:spPr>
            <a:xfrm>
              <a:off x="6211440" y="5043960"/>
              <a:ext cx="274320" cy="1555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185"/>
            <p:cNvSpPr/>
            <p:nvPr/>
          </p:nvSpPr>
          <p:spPr>
            <a:xfrm>
              <a:off x="5059440" y="5914080"/>
              <a:ext cx="299160" cy="1627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Oval 186"/>
            <p:cNvSpPr/>
            <p:nvPr/>
          </p:nvSpPr>
          <p:spPr>
            <a:xfrm>
              <a:off x="6769440" y="4654080"/>
              <a:ext cx="264240" cy="1465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Oval 187"/>
            <p:cNvSpPr/>
            <p:nvPr/>
          </p:nvSpPr>
          <p:spPr>
            <a:xfrm>
              <a:off x="7156080" y="4335120"/>
              <a:ext cx="272880" cy="15588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Oval 188"/>
            <p:cNvSpPr/>
            <p:nvPr/>
          </p:nvSpPr>
          <p:spPr>
            <a:xfrm>
              <a:off x="7571160" y="4053600"/>
              <a:ext cx="234360" cy="12600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Oval 189"/>
            <p:cNvSpPr/>
            <p:nvPr/>
          </p:nvSpPr>
          <p:spPr>
            <a:xfrm>
              <a:off x="8244720" y="3542400"/>
              <a:ext cx="230760" cy="1274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6b777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Oval 190"/>
            <p:cNvSpPr/>
            <p:nvPr/>
          </p:nvSpPr>
          <p:spPr>
            <a:xfrm>
              <a:off x="7931520" y="3787560"/>
              <a:ext cx="248400" cy="10656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Oval 191"/>
            <p:cNvSpPr/>
            <p:nvPr/>
          </p:nvSpPr>
          <p:spPr>
            <a:xfrm>
              <a:off x="8508960" y="3364200"/>
              <a:ext cx="223920" cy="10656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Oval 192"/>
            <p:cNvSpPr/>
            <p:nvPr/>
          </p:nvSpPr>
          <p:spPr>
            <a:xfrm>
              <a:off x="8764560" y="3165840"/>
              <a:ext cx="223920" cy="11196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Oval 193"/>
            <p:cNvSpPr/>
            <p:nvPr/>
          </p:nvSpPr>
          <p:spPr>
            <a:xfrm>
              <a:off x="9030600" y="2982240"/>
              <a:ext cx="213480" cy="8748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a1b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Oval 194"/>
            <p:cNvSpPr/>
            <p:nvPr/>
          </p:nvSpPr>
          <p:spPr>
            <a:xfrm>
              <a:off x="9233640" y="2828160"/>
              <a:ext cx="213480" cy="8928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a1b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Oval 195"/>
            <p:cNvSpPr/>
            <p:nvPr/>
          </p:nvSpPr>
          <p:spPr>
            <a:xfrm>
              <a:off x="9445320" y="2665440"/>
              <a:ext cx="214920" cy="8928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a1b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Oval 196"/>
            <p:cNvSpPr/>
            <p:nvPr/>
          </p:nvSpPr>
          <p:spPr>
            <a:xfrm>
              <a:off x="5694840" y="7128360"/>
              <a:ext cx="349920" cy="180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Oval 197"/>
            <p:cNvSpPr/>
            <p:nvPr/>
          </p:nvSpPr>
          <p:spPr>
            <a:xfrm>
              <a:off x="6387840" y="6467040"/>
              <a:ext cx="342720" cy="1944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Oval 198"/>
            <p:cNvSpPr/>
            <p:nvPr/>
          </p:nvSpPr>
          <p:spPr>
            <a:xfrm>
              <a:off x="8351640" y="6487920"/>
              <a:ext cx="351360" cy="1850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5a616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Oval 199"/>
            <p:cNvSpPr/>
            <p:nvPr/>
          </p:nvSpPr>
          <p:spPr>
            <a:xfrm>
              <a:off x="7858080" y="7089840"/>
              <a:ext cx="342720" cy="1836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5a616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Oval 200"/>
            <p:cNvSpPr/>
            <p:nvPr/>
          </p:nvSpPr>
          <p:spPr>
            <a:xfrm>
              <a:off x="6979320" y="5946840"/>
              <a:ext cx="293760" cy="1630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Oval 201"/>
            <p:cNvSpPr/>
            <p:nvPr/>
          </p:nvSpPr>
          <p:spPr>
            <a:xfrm>
              <a:off x="7459200" y="5500800"/>
              <a:ext cx="291960" cy="1627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Oval 202"/>
            <p:cNvSpPr/>
            <p:nvPr/>
          </p:nvSpPr>
          <p:spPr>
            <a:xfrm>
              <a:off x="8825760" y="5985360"/>
              <a:ext cx="291960" cy="1659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5a616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Oval 203"/>
            <p:cNvSpPr/>
            <p:nvPr/>
          </p:nvSpPr>
          <p:spPr>
            <a:xfrm>
              <a:off x="7966440" y="5031720"/>
              <a:ext cx="272880" cy="1450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Oval 204"/>
            <p:cNvSpPr/>
            <p:nvPr/>
          </p:nvSpPr>
          <p:spPr>
            <a:xfrm>
              <a:off x="9261720" y="5457240"/>
              <a:ext cx="293400" cy="1659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Oval 205"/>
            <p:cNvSpPr/>
            <p:nvPr/>
          </p:nvSpPr>
          <p:spPr>
            <a:xfrm>
              <a:off x="9618480" y="5042520"/>
              <a:ext cx="272880" cy="1555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5a616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Oval 206"/>
            <p:cNvSpPr/>
            <p:nvPr/>
          </p:nvSpPr>
          <p:spPr>
            <a:xfrm>
              <a:off x="8349840" y="4681800"/>
              <a:ext cx="272880" cy="1450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207"/>
            <p:cNvSpPr/>
            <p:nvPr/>
          </p:nvSpPr>
          <p:spPr>
            <a:xfrm>
              <a:off x="8689320" y="4357800"/>
              <a:ext cx="272880" cy="1450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Oval 208"/>
            <p:cNvSpPr/>
            <p:nvPr/>
          </p:nvSpPr>
          <p:spPr>
            <a:xfrm>
              <a:off x="9525960" y="3594960"/>
              <a:ext cx="230760" cy="1274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Oval 209"/>
            <p:cNvSpPr/>
            <p:nvPr/>
          </p:nvSpPr>
          <p:spPr>
            <a:xfrm>
              <a:off x="9030600" y="4053600"/>
              <a:ext cx="244800" cy="1274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Oval 210"/>
            <p:cNvSpPr/>
            <p:nvPr/>
          </p:nvSpPr>
          <p:spPr>
            <a:xfrm>
              <a:off x="9305280" y="3812040"/>
              <a:ext cx="234360" cy="106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11"/>
            <p:cNvSpPr/>
            <p:nvPr/>
          </p:nvSpPr>
          <p:spPr>
            <a:xfrm>
              <a:off x="9765720" y="3386520"/>
              <a:ext cx="223560" cy="106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58f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12"/>
            <p:cNvSpPr/>
            <p:nvPr/>
          </p:nvSpPr>
          <p:spPr>
            <a:xfrm>
              <a:off x="9954720" y="3173040"/>
              <a:ext cx="223560" cy="106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58f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13"/>
            <p:cNvSpPr/>
            <p:nvPr/>
          </p:nvSpPr>
          <p:spPr>
            <a:xfrm>
              <a:off x="9909000" y="4694040"/>
              <a:ext cx="272880" cy="1450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14"/>
            <p:cNvSpPr/>
            <p:nvPr/>
          </p:nvSpPr>
          <p:spPr>
            <a:xfrm>
              <a:off x="-115560" y="5017680"/>
              <a:ext cx="264240" cy="1555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215"/>
            <p:cNvSpPr/>
            <p:nvPr/>
          </p:nvSpPr>
          <p:spPr>
            <a:xfrm>
              <a:off x="1800" y="4338720"/>
              <a:ext cx="272880" cy="1555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216"/>
            <p:cNvSpPr/>
            <p:nvPr/>
          </p:nvSpPr>
          <p:spPr>
            <a:xfrm>
              <a:off x="-17280" y="2516760"/>
              <a:ext cx="185400" cy="766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217"/>
            <p:cNvSpPr/>
            <p:nvPr/>
          </p:nvSpPr>
          <p:spPr>
            <a:xfrm>
              <a:off x="9840600" y="7021800"/>
              <a:ext cx="351720" cy="1850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5a616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" name="PlaceHolder 1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97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SzPct val="102834"/>
              <a:buBlip>
                <a:blip r:embed="rId2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876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spcBef>
                <a:spcPts val="876"/>
              </a:spcBef>
              <a:buSzPct val="100000"/>
              <a:buBlip>
                <a:blip r:embed="rId3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-252360">
              <a:spcBef>
                <a:spcPts val="876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68360" indent="-252360">
              <a:spcBef>
                <a:spcPts val="876"/>
              </a:spcBef>
              <a:buSzPct val="100000"/>
              <a:buBlip>
                <a:blip r:embed="rId4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68360" indent="-252360">
              <a:spcBef>
                <a:spcPts val="876"/>
              </a:spcBef>
              <a:buSzPct val="100000"/>
              <a:buBlip>
                <a:blip r:embed="rId5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68360" indent="-252360">
              <a:spcBef>
                <a:spcPts val="876"/>
              </a:spcBef>
              <a:buSzPct val="100000"/>
              <a:buBlip>
                <a:blip r:embed="rId6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dt" idx="10"/>
          </p:nvPr>
        </p:nvSpPr>
        <p:spPr>
          <a:xfrm>
            <a:off x="504360" y="6881760"/>
            <a:ext cx="2351160" cy="504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ftr" idx="11"/>
          </p:nvPr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 type="sldNum" idx="12"/>
          </p:nvPr>
        </p:nvSpPr>
        <p:spPr>
          <a:xfrm>
            <a:off x="7224480" y="6881760"/>
            <a:ext cx="2352600" cy="504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marL="216000" indent="0" algn="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B3DF440D-E1F3-4538-A777-57D1826B38E9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4360" y="306000"/>
            <a:ext cx="9069480" cy="671364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6720"/>
                <a:tab algn="l" pos="8686800"/>
                <a:tab algn="l" pos="9072720"/>
                <a:tab algn="l" pos="10080720"/>
              </a:tabLst>
            </a:pPr>
            <a:r>
              <a:rPr b="0" i="1" lang="de-DE" sz="4900" spc="-1" strike="noStrike">
                <a:solidFill>
                  <a:srgbClr val="cc3300"/>
                </a:solidFill>
                <a:latin typeface="Arial"/>
              </a:rPr>
              <a:t>Информация по результатам проведения оценки качества организации и осуществления бюджетного процесса в поселениях Крутинского муниципального района </a:t>
            </a:r>
            <a:br>
              <a:rPr sz="4900"/>
            </a:br>
            <a:r>
              <a:rPr b="0" i="1" lang="ru-RU" sz="4900" spc="-1" strike="noStrike">
                <a:solidFill>
                  <a:srgbClr val="cc3300"/>
                </a:solidFill>
                <a:latin typeface="Arial"/>
              </a:rPr>
              <a:t>на 1 января 2023 года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Объект 1" descr=""/>
          <p:cNvPicPr/>
          <p:nvPr/>
        </p:nvPicPr>
        <p:blipFill>
          <a:blip r:embed="rId1"/>
          <a:stretch/>
        </p:blipFill>
        <p:spPr>
          <a:xfrm>
            <a:off x="1927080" y="7020000"/>
            <a:ext cx="100080" cy="71280"/>
          </a:xfrm>
          <a:prstGeom prst="rect">
            <a:avLst/>
          </a:prstGeom>
          <a:ln w="0">
            <a:noFill/>
          </a:ln>
        </p:spPr>
      </p:pic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6720"/>
                <a:tab algn="l" pos="8064360"/>
                <a:tab algn="l" pos="9072720"/>
                <a:tab algn="l" pos="1008072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Информация по итогам проведения оценки качества организации и осуществления бюджетного процесса в поселениях Крутинского муниципального района Омской области по состоянию </a:t>
            </a:r>
            <a:br>
              <a:rPr sz="2500"/>
            </a:br>
            <a:r>
              <a:rPr b="1" lang="de-DE" sz="2500" spc="-1" strike="noStrike">
                <a:solidFill>
                  <a:srgbClr val="000000"/>
                </a:solidFill>
                <a:latin typeface="Times New Roman"/>
              </a:rPr>
              <a:t>на 01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января</a:t>
            </a:r>
            <a:r>
              <a:rPr b="1" lang="de-DE" sz="2500" spc="-1" strike="noStrike">
                <a:solidFill>
                  <a:srgbClr val="000000"/>
                </a:solidFill>
                <a:latin typeface="Times New Roman"/>
              </a:rPr>
              <a:t> 20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1" lang="de-DE" sz="2500" spc="-1" strike="noStrike">
                <a:solidFill>
                  <a:srgbClr val="000000"/>
                </a:solidFill>
                <a:latin typeface="Times New Roman"/>
              </a:rPr>
              <a:t> год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9" name=""/>
          <p:cNvGraphicFramePr/>
          <p:nvPr/>
        </p:nvGraphicFramePr>
        <p:xfrm>
          <a:off x="5359320" y="3549600"/>
          <a:ext cx="4505400" cy="3691080"/>
        </p:xfrm>
        <a:graphic>
          <a:graphicData uri="http://schemas.openxmlformats.org/drawingml/2006/table">
            <a:tbl>
              <a:tblPr/>
              <a:tblGrid>
                <a:gridCol w="976320"/>
                <a:gridCol w="2835360"/>
                <a:gridCol w="693720"/>
              </a:tblGrid>
              <a:tr h="814320">
                <a:tc>
                  <a:txBody>
                    <a:bodyPr anchor="ctr">
                      <a:noAutofit/>
                    </a:bodyPr>
                    <a:p>
                      <a:pPr marL="378000" indent="-378000" algn="ctr">
                        <a:lnSpc>
                          <a:spcPct val="93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анимаемо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78000" indent="-378000" algn="ctr">
                        <a:lnSpc>
                          <a:spcPct val="93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ест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7676"/>
                        </a:gs>
                        <a:gs pos="50000">
                          <a:srgbClr val="66ffff"/>
                        </a:gs>
                        <a:gs pos="100000">
                          <a:srgbClr val="2f7676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78000" indent="-378000" algn="ctr">
                        <a:lnSpc>
                          <a:spcPct val="93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именование сельского посел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7676"/>
                        </a:gs>
                        <a:gs pos="50000">
                          <a:srgbClr val="66ffff"/>
                        </a:gs>
                        <a:gs pos="100000">
                          <a:srgbClr val="2f7676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78000" indent="-378000" algn="ctr">
                        <a:lnSpc>
                          <a:spcPct val="93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алл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7676"/>
                        </a:gs>
                        <a:gs pos="50000">
                          <a:srgbClr val="66ffff"/>
                        </a:gs>
                        <a:gs pos="100000">
                          <a:srgbClr val="2f7676"/>
                        </a:gs>
                      </a:gsLst>
                      <a:lin ang="18900000"/>
                    </a:gradFill>
                  </a:tcPr>
                </a:tc>
              </a:tr>
              <a:tr h="279360">
                <a:tc>
                  <a:txBody>
                    <a:bodyPr anchor="b">
                      <a:noAutofit/>
                    </a:bodyPr>
                    <a:p>
                      <a:pPr marL="378000" indent="-378000" algn="ctr">
                        <a:lnSpc>
                          <a:spcPct val="93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7676"/>
                        </a:gs>
                        <a:gs pos="50000">
                          <a:srgbClr val="66ffff"/>
                        </a:gs>
                        <a:gs pos="100000">
                          <a:srgbClr val="2f7676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утинское городское посел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7676"/>
                        </a:gs>
                        <a:gs pos="50000">
                          <a:srgbClr val="66ffff"/>
                        </a:gs>
                        <a:gs pos="100000">
                          <a:srgbClr val="2f7676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,6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7676"/>
                        </a:gs>
                        <a:gs pos="50000">
                          <a:srgbClr val="66ffff"/>
                        </a:gs>
                        <a:gs pos="100000">
                          <a:srgbClr val="2f7676"/>
                        </a:gs>
                      </a:gsLst>
                      <a:lin ang="18900000"/>
                    </a:gradFill>
                  </a:tcPr>
                </a:tc>
              </a:tr>
              <a:tr h="289080">
                <a:tc>
                  <a:txBody>
                    <a:bodyPr anchor="b">
                      <a:noAutofit/>
                    </a:bodyPr>
                    <a:p>
                      <a:pPr marL="378000" indent="-378000" algn="ctr">
                        <a:lnSpc>
                          <a:spcPct val="93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7676"/>
                        </a:gs>
                        <a:gs pos="50000">
                          <a:srgbClr val="66ffff"/>
                        </a:gs>
                        <a:gs pos="100000">
                          <a:srgbClr val="2f7676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манское сельское посел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7676"/>
                        </a:gs>
                        <a:gs pos="50000">
                          <a:srgbClr val="66ffff"/>
                        </a:gs>
                        <a:gs pos="100000">
                          <a:srgbClr val="2f7676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,3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7676"/>
                        </a:gs>
                        <a:gs pos="50000">
                          <a:srgbClr val="66ffff"/>
                        </a:gs>
                        <a:gs pos="100000">
                          <a:srgbClr val="2f7676"/>
                        </a:gs>
                      </a:gsLst>
                      <a:lin ang="18900000"/>
                    </a:gradFill>
                  </a:tcPr>
                </a:tc>
              </a:tr>
              <a:tr h="289080">
                <a:tc>
                  <a:txBody>
                    <a:bodyPr anchor="b">
                      <a:noAutofit/>
                    </a:bodyPr>
                    <a:p>
                      <a:pPr marL="378000" indent="-378000" algn="ctr">
                        <a:lnSpc>
                          <a:spcPct val="93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7676"/>
                        </a:gs>
                        <a:gs pos="50000">
                          <a:srgbClr val="66ffff"/>
                        </a:gs>
                        <a:gs pos="100000">
                          <a:srgbClr val="2f7676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локонцевское сельское посел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7676"/>
                        </a:gs>
                        <a:gs pos="50000">
                          <a:srgbClr val="66ffff"/>
                        </a:gs>
                        <a:gs pos="100000">
                          <a:srgbClr val="2f7676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,0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7676"/>
                        </a:gs>
                        <a:gs pos="50000">
                          <a:srgbClr val="66ffff"/>
                        </a:gs>
                        <a:gs pos="100000">
                          <a:srgbClr val="2f7676"/>
                        </a:gs>
                      </a:gsLst>
                      <a:lin ang="18900000"/>
                    </a:gradFill>
                  </a:tcPr>
                </a:tc>
              </a:tr>
              <a:tr h="287280">
                <a:tc>
                  <a:txBody>
                    <a:bodyPr anchor="b">
                      <a:noAutofit/>
                    </a:bodyPr>
                    <a:p>
                      <a:pPr marL="378000" indent="-378000" algn="ctr">
                        <a:lnSpc>
                          <a:spcPct val="93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7676"/>
                        </a:gs>
                        <a:gs pos="50000">
                          <a:srgbClr val="66ffff"/>
                        </a:gs>
                        <a:gs pos="100000">
                          <a:srgbClr val="2f7676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ыжковское сельское посел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7676"/>
                        </a:gs>
                        <a:gs pos="50000">
                          <a:srgbClr val="66ffff"/>
                        </a:gs>
                        <a:gs pos="100000">
                          <a:srgbClr val="2f7676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,4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7676"/>
                        </a:gs>
                        <a:gs pos="50000">
                          <a:srgbClr val="66ffff"/>
                        </a:gs>
                        <a:gs pos="100000">
                          <a:srgbClr val="2f7676"/>
                        </a:gs>
                      </a:gsLst>
                      <a:lin ang="18900000"/>
                    </a:gradFill>
                  </a:tcPr>
                </a:tc>
              </a:tr>
              <a:tr h="288720">
                <a:tc>
                  <a:txBody>
                    <a:bodyPr anchor="b">
                      <a:noAutofit/>
                    </a:bodyPr>
                    <a:p>
                      <a:pPr marL="378000" indent="-378000" algn="ctr">
                        <a:lnSpc>
                          <a:spcPct val="93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7676"/>
                        </a:gs>
                        <a:gs pos="50000">
                          <a:srgbClr val="66ffff"/>
                        </a:gs>
                        <a:gs pos="100000">
                          <a:srgbClr val="2f7676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глухинское сельское посел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7676"/>
                        </a:gs>
                        <a:gs pos="50000">
                          <a:srgbClr val="66ffff"/>
                        </a:gs>
                        <a:gs pos="100000">
                          <a:srgbClr val="2f7676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,7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7676"/>
                        </a:gs>
                        <a:gs pos="50000">
                          <a:srgbClr val="66ffff"/>
                        </a:gs>
                        <a:gs pos="100000">
                          <a:srgbClr val="2f7676"/>
                        </a:gs>
                      </a:gsLst>
                      <a:lin ang="18900000"/>
                    </a:gradFill>
                  </a:tcPr>
                </a:tc>
              </a:tr>
              <a:tr h="290520">
                <a:tc>
                  <a:txBody>
                    <a:bodyPr anchor="b">
                      <a:noAutofit/>
                    </a:bodyPr>
                    <a:p>
                      <a:pPr marL="378000" indent="-378000" algn="ctr">
                        <a:lnSpc>
                          <a:spcPct val="93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7676"/>
                        </a:gs>
                        <a:gs pos="50000">
                          <a:srgbClr val="66ffff"/>
                        </a:gs>
                        <a:gs pos="100000">
                          <a:srgbClr val="2f7676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новское сельское посел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7676"/>
                        </a:gs>
                        <a:gs pos="50000">
                          <a:srgbClr val="66ffff"/>
                        </a:gs>
                        <a:gs pos="100000">
                          <a:srgbClr val="2f7676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,3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7676"/>
                        </a:gs>
                        <a:gs pos="50000">
                          <a:srgbClr val="66ffff"/>
                        </a:gs>
                        <a:gs pos="100000">
                          <a:srgbClr val="2f7676"/>
                        </a:gs>
                      </a:gsLst>
                      <a:lin ang="18900000"/>
                    </a:gradFill>
                  </a:tcPr>
                </a:tc>
              </a:tr>
              <a:tr h="287280">
                <a:tc>
                  <a:txBody>
                    <a:bodyPr anchor="b">
                      <a:noAutofit/>
                    </a:bodyPr>
                    <a:p>
                      <a:pPr marL="378000" indent="-378000" algn="ctr">
                        <a:lnSpc>
                          <a:spcPct val="93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7676"/>
                        </a:gs>
                        <a:gs pos="50000">
                          <a:srgbClr val="66ffff"/>
                        </a:gs>
                        <a:gs pos="100000">
                          <a:srgbClr val="2f7676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ипуновское сельское посел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7676"/>
                        </a:gs>
                        <a:gs pos="50000">
                          <a:srgbClr val="66ffff"/>
                        </a:gs>
                        <a:gs pos="100000">
                          <a:srgbClr val="2f7676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,1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7676"/>
                        </a:gs>
                        <a:gs pos="50000">
                          <a:srgbClr val="66ffff"/>
                        </a:gs>
                        <a:gs pos="100000">
                          <a:srgbClr val="2f7676"/>
                        </a:gs>
                      </a:gsLst>
                      <a:lin ang="18900000"/>
                    </a:gradFill>
                  </a:tcPr>
                </a:tc>
              </a:tr>
              <a:tr h="289080">
                <a:tc>
                  <a:txBody>
                    <a:bodyPr anchor="b">
                      <a:noAutofit/>
                    </a:bodyPr>
                    <a:p>
                      <a:pPr marL="378000" indent="-378000" algn="ctr">
                        <a:lnSpc>
                          <a:spcPct val="93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7676"/>
                        </a:gs>
                        <a:gs pos="50000">
                          <a:srgbClr val="66ffff"/>
                        </a:gs>
                        <a:gs pos="100000">
                          <a:srgbClr val="2f7676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вокарасукское сельское посел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7676"/>
                        </a:gs>
                        <a:gs pos="50000">
                          <a:srgbClr val="66ffff"/>
                        </a:gs>
                        <a:gs pos="100000">
                          <a:srgbClr val="2f7676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,7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7676"/>
                        </a:gs>
                        <a:gs pos="50000">
                          <a:srgbClr val="66ffff"/>
                        </a:gs>
                        <a:gs pos="100000">
                          <a:srgbClr val="2f7676"/>
                        </a:gs>
                      </a:gsLst>
                      <a:lin ang="18900000"/>
                    </a:gradFill>
                  </a:tcPr>
                </a:tc>
              </a:tr>
              <a:tr h="287280">
                <a:tc>
                  <a:txBody>
                    <a:bodyPr anchor="b">
                      <a:noAutofit/>
                    </a:bodyPr>
                    <a:p>
                      <a:pPr marL="378000" indent="-378000" algn="ctr">
                        <a:lnSpc>
                          <a:spcPct val="93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7676"/>
                        </a:gs>
                        <a:gs pos="50000">
                          <a:srgbClr val="66ffff"/>
                        </a:gs>
                        <a:gs pos="100000">
                          <a:srgbClr val="2f7676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терминское сельское посел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7676"/>
                        </a:gs>
                        <a:gs pos="50000">
                          <a:srgbClr val="66ffff"/>
                        </a:gs>
                        <a:gs pos="100000">
                          <a:srgbClr val="2f7676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,2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7676"/>
                        </a:gs>
                        <a:gs pos="50000">
                          <a:srgbClr val="66ffff"/>
                        </a:gs>
                        <a:gs pos="100000">
                          <a:srgbClr val="2f7676"/>
                        </a:gs>
                      </a:gsLst>
                      <a:lin ang="18900000"/>
                    </a:gradFill>
                  </a:tcPr>
                </a:tc>
              </a:tr>
              <a:tr h="289080">
                <a:tc>
                  <a:txBody>
                    <a:bodyPr anchor="b">
                      <a:noAutofit/>
                    </a:bodyPr>
                    <a:p>
                      <a:pPr marL="378000" indent="-378000" algn="ctr">
                        <a:lnSpc>
                          <a:spcPct val="93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7676"/>
                        </a:gs>
                        <a:gs pos="50000">
                          <a:srgbClr val="66ffff"/>
                        </a:gs>
                        <a:gs pos="100000">
                          <a:srgbClr val="2f7676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иминское сельское посел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7676"/>
                        </a:gs>
                        <a:gs pos="50000">
                          <a:srgbClr val="66ffff"/>
                        </a:gs>
                        <a:gs pos="100000">
                          <a:srgbClr val="2f7676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,0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7676"/>
                        </a:gs>
                        <a:gs pos="50000">
                          <a:srgbClr val="66ffff"/>
                        </a:gs>
                        <a:gs pos="100000">
                          <a:srgbClr val="2f7676"/>
                        </a:gs>
                      </a:gsLst>
                      <a:lin ang="18900000"/>
                    </a:gradFill>
                  </a:tcPr>
                </a:tc>
              </a:tr>
            </a:tbl>
          </a:graphicData>
        </a:graphic>
      </p:graphicFrame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5400720" y="1907640"/>
            <a:ext cx="453528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11160" bIns="0" anchor="t">
            <a:normAutofit/>
          </a:bodyPr>
          <a:p>
            <a:pPr marL="43164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Степень ка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r">
              <a:lnSpc>
                <a:spcPct val="95000"/>
              </a:lnSpc>
              <a:spcBef>
                <a:spcPts val="451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1" name=""/>
          <p:cNvGraphicFramePr/>
          <p:nvPr/>
        </p:nvGraphicFramePr>
        <p:xfrm>
          <a:off x="7558200" y="1979640"/>
          <a:ext cx="2306520" cy="1452600"/>
        </p:xfrm>
        <a:graphic>
          <a:graphicData uri="http://schemas.openxmlformats.org/drawingml/2006/table">
            <a:tbl>
              <a:tblPr/>
              <a:tblGrid>
                <a:gridCol w="388800"/>
                <a:gridCol w="1917720"/>
              </a:tblGrid>
              <a:tr h="485280">
                <a:tc>
                  <a:txBody>
                    <a:bodyPr lIns="36000" rIns="36000" tIns="51840" bIns="36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36000" rIns="36000" bIns="36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олее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2,1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I степень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6e6ff"/>
                    </a:solidFill>
                  </a:tcPr>
                </a:tc>
              </a:tr>
              <a:tr h="485280">
                <a:tc>
                  <a:txBody>
                    <a:bodyPr lIns="36000" rIns="36000" tIns="51840" bIns="36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deb3d"/>
                    </a:solidFill>
                  </a:tcPr>
                </a:tc>
                <a:tc>
                  <a:txBody>
                    <a:bodyPr lIns="36000" rIns="36000" bIns="36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,801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–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2,1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II степень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6e6ff"/>
                    </a:solidFill>
                  </a:tcPr>
                </a:tc>
              </a:tr>
              <a:tr h="485280">
                <a:tc>
                  <a:txBody>
                    <a:bodyPr lIns="36000" rIns="36000" tIns="51840" bIns="36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c2300"/>
                    </a:solidFill>
                  </a:tcPr>
                </a:tc>
                <a:tc>
                  <a:txBody>
                    <a:bodyPr lIns="36000" rIns="36000" bIns="36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енее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,8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III степень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6e6ff"/>
                    </a:solidFill>
                  </a:tcPr>
                </a:tc>
              </a:tr>
            </a:tbl>
          </a:graphicData>
        </a:graphic>
      </p:graphicFrame>
      <p:pic>
        <p:nvPicPr>
          <p:cNvPr id="602" name="Рисунок 1" descr=""/>
          <p:cNvPicPr/>
          <p:nvPr/>
        </p:nvPicPr>
        <p:blipFill>
          <a:blip r:embed="rId2"/>
          <a:stretch/>
        </p:blipFill>
        <p:spPr>
          <a:xfrm>
            <a:off x="111240" y="1836720"/>
            <a:ext cx="5176800" cy="540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6720"/>
                <a:tab algn="l" pos="8686800"/>
                <a:tab algn="l" pos="9072720"/>
                <a:tab algn="l" pos="1008072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Результаты проведения оценки качества организации и осуществления бюджетного процесса в поселениях Крутинского муниципального района Омской области по состоянию 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на 01 января 2023 год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4" name=""/>
          <p:cNvGraphicFramePr/>
          <p:nvPr/>
        </p:nvGraphicFramePr>
        <p:xfrm>
          <a:off x="5116680" y="1763640"/>
          <a:ext cx="4460760" cy="2422440"/>
        </p:xfrm>
        <a:graphic>
          <a:graphicData uri="http://schemas.openxmlformats.org/drawingml/2006/table">
            <a:tbl>
              <a:tblPr/>
              <a:tblGrid>
                <a:gridCol w="4460760"/>
              </a:tblGrid>
              <a:tr h="242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5" name="Рисунок 1" descr=""/>
          <p:cNvPicPr/>
          <p:nvPr/>
        </p:nvPicPr>
        <p:blipFill>
          <a:blip r:embed="rId1"/>
          <a:stretch/>
        </p:blipFill>
        <p:spPr>
          <a:xfrm>
            <a:off x="792000" y="1681200"/>
            <a:ext cx="8280720" cy="57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6720"/>
                <a:tab algn="l" pos="8686800"/>
                <a:tab algn="l" pos="9072720"/>
                <a:tab algn="l" pos="1008072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Сравнительная характеристика максимальных и минимальных оценок показателей по поселениям 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Крутинского муниципального рай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7" name="Object 20"/>
          <p:cNvGraphicFramePr/>
          <p:nvPr/>
        </p:nvGraphicFramePr>
        <p:xfrm>
          <a:off x="5184720" y="2570040"/>
          <a:ext cx="4457880" cy="24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8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4720" y="2570040"/>
                    <a:ext cx="4457880" cy="24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09" name="Рисунок 1" descr=""/>
          <p:cNvPicPr/>
          <p:nvPr/>
        </p:nvPicPr>
        <p:blipFill>
          <a:blip r:embed="rId3"/>
          <a:stretch/>
        </p:blipFill>
        <p:spPr>
          <a:xfrm>
            <a:off x="1512720" y="1692360"/>
            <a:ext cx="7344000" cy="574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718920" y="250560"/>
            <a:ext cx="845028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6720"/>
                <a:tab algn="l" pos="8064360"/>
                <a:tab algn="l" pos="9072720"/>
                <a:tab algn="l" pos="10080720"/>
              </a:tabLst>
            </a:pPr>
            <a:r>
              <a:rPr b="0" lang="de-DE" sz="3700" spc="-1" strike="noStrike">
                <a:solidFill>
                  <a:srgbClr val="000000"/>
                </a:solidFill>
                <a:latin typeface="Times New Roman"/>
              </a:rPr>
              <a:t>Справочная информация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504720" y="1115640"/>
            <a:ext cx="9072720" cy="490212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0000"/>
              </a:lnSpc>
              <a:spcBef>
                <a:spcPts val="601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6720"/>
                <a:tab algn="l" pos="8064360"/>
                <a:tab algn="l" pos="9072720"/>
                <a:tab algn="l" pos="100807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Оценка качества проведена на основаниии месячного отчета об исполнении бюджетов поселений Крутинского муниципального района по состоянию на 01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нваря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2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3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года, а также информации, представленной органами местного самоуправления поселений Крутинского муниципального района в установленном поряд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0000"/>
              </a:lnSpc>
              <a:spcBef>
                <a:spcPts val="601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6720"/>
                <a:tab algn="l" pos="8064360"/>
                <a:tab algn="l" pos="9072720"/>
                <a:tab algn="l" pos="100807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Оценка качества осуществлена по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показател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2" name=""/>
          <p:cNvGraphicFramePr/>
          <p:nvPr/>
        </p:nvGraphicFramePr>
        <p:xfrm>
          <a:off x="1655640" y="3708360"/>
          <a:ext cx="6264360" cy="3456000"/>
        </p:xfrm>
        <a:graphic>
          <a:graphicData uri="http://schemas.openxmlformats.org/drawingml/2006/table">
            <a:tbl>
              <a:tblPr/>
              <a:tblGrid>
                <a:gridCol w="3316320"/>
                <a:gridCol w="1378080"/>
                <a:gridCol w="1569960"/>
              </a:tblGrid>
              <a:tr h="1158840">
                <a:tc>
                  <a:txBody>
                    <a:bodyPr lIns="90000" rIns="90000" tIns="5508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тоговая оцен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5508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начение, бал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5508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ля от максимально возможной оценки, в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636840">
                <a:tc>
                  <a:txBody>
                    <a:bodyPr lIns="90000" rIns="90000" tIns="550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аксимально возможная к получен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5508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9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387000">
                <a:tc>
                  <a:txBody>
                    <a:bodyPr lIns="90000" rIns="90000" tIns="550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редняя по результатам оцен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5508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,9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5508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36840">
                <a:tc>
                  <a:txBody>
                    <a:bodyPr lIns="90000" rIns="90000" tIns="550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аксимальная по результатам оцен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5508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2,6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9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5508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2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636480">
                <a:tc>
                  <a:txBody>
                    <a:bodyPr lIns="90000" rIns="90000" tIns="550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инимальная по результатам оцен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5508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3,0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9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5508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3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5:32:33Z</dcterms:created>
  <dc:creator/>
  <dc:description/>
  <dc:language>en-US</dc:language>
  <cp:lastModifiedBy>User17</cp:lastModifiedBy>
  <cp:lastPrinted>2021-02-09T04:07:23Z</cp:lastPrinted>
  <dcterms:modified xsi:type="dcterms:W3CDTF">2023-03-01T02:47:17Z</dcterms:modified>
  <cp:revision>103</cp:revision>
  <dc:subject/>
  <dc:title>Информация по результатам проведения оценки качества организации и осуществления бюджетного процесса в поселениях Крутинского муниципального района  по состоянию  на 01 июля 2010 года</dc:title>
</cp:coreProperties>
</file>