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46A-3087-41BB-9C78-D61350DC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784-A806-4947-94E6-01DB6E30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4C5-D0AE-4DAF-B1BF-50FB39A8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7EE-2947-4C90-96D8-3E29F58C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13A-B242-4FD6-ADEB-E52ED404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FB39-7D9B-43D9-AB7A-125D76D3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8979-4D61-41C4-A456-B8700F0D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43D6-E167-46DA-8D02-F78B6FD8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85DC-17F3-4F6E-9A3C-CACF376A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3C1-1567-4325-87B9-57BD7B77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72E-8147-47B4-9F40-61F4539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E31-05E0-4BCB-A35C-F27562B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BBD7-1991-4330-A334-0BB3F04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D590-4A55-4EAF-AE6D-F877347F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687-4D58-477B-99D6-1878E87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DA1-31E2-4949-A61F-BE1157C9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F75-10E9-484F-B181-5300EBE1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445B0-F128-482E-97BF-4BFF7BB8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EE604-45EB-4FE7-90EC-5511A7C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CCDC3-A43A-4812-B387-91A278AC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2F792-C064-41E1-90D9-8564DB23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2A176-992D-41E7-B792-27305FA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175-80A3-4D03-AA9D-A7D0EF4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CB491-736D-4A3F-99E5-8D6D63B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6E711-E02D-4313-9D3F-BB34A26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A6365-5577-4829-8700-4F78214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B8219-D2CA-4FAA-9EC3-D8D3579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ACE23-67D6-4C67-ADE3-DD30E8E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59071-BFA1-4C21-ADB4-00F38B7B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99268-D615-48CA-8E08-BB97519F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2BAC-D50D-40F2-9B04-0EDA8F2E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55F00-D268-4717-B007-5E1BC80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8511-CF0D-4D50-B413-2BA6AD2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667-920E-4EDD-A3B1-4BF5134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DDEC-855C-44F9-9187-ECB1274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E0B6-8347-45B7-98F5-3990A049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EEA3-56E9-44D5-AEA0-B304B4C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6D61-2740-4326-B497-88BAF63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2251-9ED7-4B11-AE94-3861C8C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A62B-0108-45E2-8CFD-549FE3C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FA50-4158-4103-9501-09A5BCA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12B4-CD07-46A2-B62E-F5B781A1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F0CA-E5E4-4BD5-BE6C-D3E26959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37C-80AA-4F21-9F7D-52DB019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018-2EAF-4AD3-9B48-06C206E5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0E4-0438-42A1-8E11-76D5CD1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51A-239A-4F0B-9D55-D18FC71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238-0E8E-4D1E-A1E1-A144C80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A8A23-CDB9-41A5-BC64-8B90CA3C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AE50B-1F52-4B49-85EF-FAFE6F1F0F1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13760" y="1441440"/>
            <a:ext cx="10307520" cy="6210720"/>
            <a:chOff x="-113760" y="1441440"/>
            <a:chExt cx="10307520" cy="6210720"/>
          </a:xfrm>
        </p:grpSpPr>
        <p:sp>
          <p:nvSpPr>
            <p:cNvPr id="83" name="Rectangle 3"/>
            <p:cNvSpPr/>
            <p:nvPr/>
          </p:nvSpPr>
          <p:spPr>
            <a:xfrm flipV="1" rot="20798400">
              <a:off x="-24480" y="180720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 flipV="1" rot="20774400">
              <a:off x="-41760" y="197136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flipV="1" rot="20757600">
              <a:off x="-46800" y="209592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 flipV="1" rot="20684400">
              <a:off x="-74880" y="2244960"/>
              <a:ext cx="4331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flipV="1" rot="20631600">
              <a:off x="-88560" y="2444400"/>
              <a:ext cx="48474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flipV="1" rot="20554800">
              <a:off x="-113400" y="2665440"/>
              <a:ext cx="53550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V="1" rot="20466600">
              <a:off x="-162360" y="2964960"/>
              <a:ext cx="59536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flipV="1" rot="20343600">
              <a:off x="-172800" y="3260520"/>
              <a:ext cx="65606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 rot="20211600">
              <a:off x="-288360" y="3592800"/>
              <a:ext cx="7365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 flipV="1" rot="20103000">
              <a:off x="-374400" y="4006440"/>
              <a:ext cx="80730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 flipV="1" rot="19923600">
              <a:off x="-547200" y="4580280"/>
              <a:ext cx="91000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 flipV="1" rot="19686600">
              <a:off x="15480" y="5042880"/>
              <a:ext cx="945180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 flipV="1" rot="19383600">
              <a:off x="2307600" y="5125680"/>
              <a:ext cx="80730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 flipV="1" rot="18994200">
              <a:off x="4691160" y="5376240"/>
              <a:ext cx="62582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 flipV="1" rot="18603600">
              <a:off x="7090560" y="6127920"/>
              <a:ext cx="36406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 flipH="1" flipV="1" rot="18391200">
              <a:off x="9394920" y="729108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 rot="1058400">
              <a:off x="-255240" y="4131360"/>
              <a:ext cx="105807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 rot="1563600">
              <a:off x="-345960" y="5945760"/>
              <a:ext cx="724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 rot="1732800">
              <a:off x="-288720" y="634536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1968600">
              <a:off x="-192240" y="686700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1386000">
              <a:off x="-377640" y="5639400"/>
              <a:ext cx="95853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983400">
              <a:off x="-200520" y="3726720"/>
              <a:ext cx="105318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 flipV="1" rot="930600">
              <a:off x="139680" y="3404880"/>
              <a:ext cx="10073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 rot="867600">
              <a:off x="654120" y="3153960"/>
              <a:ext cx="9581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 rot="775200">
              <a:off x="1483920" y="2768760"/>
              <a:ext cx="87084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 rot="735000">
              <a:off x="1842480" y="258300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 rot="692400">
              <a:off x="2176920" y="2409120"/>
              <a:ext cx="7974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 flipV="1" rot="655800">
              <a:off x="2602080" y="228276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 flipV="1" rot="637200">
              <a:off x="2887200" y="2131200"/>
              <a:ext cx="726948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flipV="1" rot="804000">
              <a:off x="1068840" y="2947320"/>
              <a:ext cx="910764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 flipV="1" rot="1273800">
              <a:off x="-356760" y="5209200"/>
              <a:ext cx="107629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 flipV="1" rot="1170000">
              <a:off x="-303840" y="4661280"/>
              <a:ext cx="106855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1294920" y="58809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412920" y="53816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278280" y="6394320"/>
              <a:ext cx="342720" cy="185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3634920" y="46584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140200" y="538524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2950560" y="50022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1312200" y="497016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>
              <a:off x="642240" y="4649760"/>
              <a:ext cx="26244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>
              <a:off x="2050920" y="4624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>
              <a:off x="4201920" y="43502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>
              <a:off x="3342600" y="405072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>
              <a:off x="3944880" y="377064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>
              <a:off x="4798440" y="4034880"/>
              <a:ext cx="245160" cy="126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>
              <a:off x="4921200" y="332244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>
              <a:off x="6512040" y="31363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>
              <a:off x="6174360" y="331884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>
              <a:off x="5361840" y="3111840"/>
              <a:ext cx="223920" cy="108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>
              <a:off x="5735160" y="35427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>
              <a:off x="5297400" y="3781080"/>
              <a:ext cx="232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>
              <a:off x="2745720" y="42940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3260160" y="354996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2647800" y="3807360"/>
              <a:ext cx="2430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2084400" y="404568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2019600" y="35834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1998720" y="3155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2625120" y="3346560"/>
              <a:ext cx="22356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3156840" y="31521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3778560" y="3334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3"/>
            <p:cNvSpPr/>
            <p:nvPr/>
          </p:nvSpPr>
          <p:spPr>
            <a:xfrm>
              <a:off x="4255920" y="31276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4"/>
            <p:cNvSpPr/>
            <p:nvPr/>
          </p:nvSpPr>
          <p:spPr>
            <a:xfrm>
              <a:off x="822600" y="3557160"/>
              <a:ext cx="2340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119160" y="379152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6"/>
            <p:cNvSpPr/>
            <p:nvPr/>
          </p:nvSpPr>
          <p:spPr>
            <a:xfrm>
              <a:off x="1396440" y="3353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7"/>
            <p:cNvSpPr/>
            <p:nvPr/>
          </p:nvSpPr>
          <p:spPr>
            <a:xfrm>
              <a:off x="795960" y="31453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8"/>
            <p:cNvSpPr/>
            <p:nvPr/>
          </p:nvSpPr>
          <p:spPr>
            <a:xfrm>
              <a:off x="197640" y="33274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9"/>
            <p:cNvSpPr/>
            <p:nvPr/>
          </p:nvSpPr>
          <p:spPr>
            <a:xfrm>
              <a:off x="756000" y="4066560"/>
              <a:ext cx="2484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0"/>
            <p:cNvSpPr/>
            <p:nvPr/>
          </p:nvSpPr>
          <p:spPr>
            <a:xfrm>
              <a:off x="1424520" y="381240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1"/>
            <p:cNvSpPr/>
            <p:nvPr/>
          </p:nvSpPr>
          <p:spPr>
            <a:xfrm>
              <a:off x="1380600" y="432756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2"/>
            <p:cNvSpPr/>
            <p:nvPr/>
          </p:nvSpPr>
          <p:spPr>
            <a:xfrm>
              <a:off x="4452120" y="352728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3"/>
            <p:cNvSpPr/>
            <p:nvPr/>
          </p:nvSpPr>
          <p:spPr>
            <a:xfrm>
              <a:off x="2549880" y="297576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4"/>
            <p:cNvSpPr/>
            <p:nvPr/>
          </p:nvSpPr>
          <p:spPr>
            <a:xfrm>
              <a:off x="3057480" y="279828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5"/>
            <p:cNvSpPr/>
            <p:nvPr/>
          </p:nvSpPr>
          <p:spPr>
            <a:xfrm>
              <a:off x="2423520" y="263556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6"/>
            <p:cNvSpPr/>
            <p:nvPr/>
          </p:nvSpPr>
          <p:spPr>
            <a:xfrm>
              <a:off x="1912680" y="279180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7"/>
            <p:cNvSpPr/>
            <p:nvPr/>
          </p:nvSpPr>
          <p:spPr>
            <a:xfrm>
              <a:off x="1386360" y="29577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8"/>
            <p:cNvSpPr/>
            <p:nvPr/>
          </p:nvSpPr>
          <p:spPr>
            <a:xfrm>
              <a:off x="3519360" y="264636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9"/>
            <p:cNvSpPr/>
            <p:nvPr/>
          </p:nvSpPr>
          <p:spPr>
            <a:xfrm>
              <a:off x="3652200" y="29685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0"/>
            <p:cNvSpPr/>
            <p:nvPr/>
          </p:nvSpPr>
          <p:spPr>
            <a:xfrm>
              <a:off x="4104000" y="28018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81"/>
            <p:cNvSpPr/>
            <p:nvPr/>
          </p:nvSpPr>
          <p:spPr>
            <a:xfrm>
              <a:off x="4697280" y="29509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2"/>
            <p:cNvSpPr/>
            <p:nvPr/>
          </p:nvSpPr>
          <p:spPr>
            <a:xfrm>
              <a:off x="1410480" y="26463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866160" y="27950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398880" y="26391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85"/>
            <p:cNvSpPr/>
            <p:nvPr/>
          </p:nvSpPr>
          <p:spPr>
            <a:xfrm>
              <a:off x="274680" y="2972160"/>
              <a:ext cx="2152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5052600" y="279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5388480" y="2644200"/>
              <a:ext cx="21636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5722920" y="2954520"/>
              <a:ext cx="2170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9"/>
            <p:cNvSpPr/>
            <p:nvPr/>
          </p:nvSpPr>
          <p:spPr>
            <a:xfrm>
              <a:off x="6042960" y="279828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90"/>
            <p:cNvSpPr/>
            <p:nvPr/>
          </p:nvSpPr>
          <p:spPr>
            <a:xfrm>
              <a:off x="6389640" y="263556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91"/>
            <p:cNvSpPr/>
            <p:nvPr/>
          </p:nvSpPr>
          <p:spPr>
            <a:xfrm>
              <a:off x="7439760" y="264780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92"/>
            <p:cNvSpPr/>
            <p:nvPr/>
          </p:nvSpPr>
          <p:spPr>
            <a:xfrm>
              <a:off x="6826680" y="29772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93"/>
            <p:cNvSpPr/>
            <p:nvPr/>
          </p:nvSpPr>
          <p:spPr>
            <a:xfrm>
              <a:off x="7150680" y="28144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4"/>
            <p:cNvSpPr/>
            <p:nvPr/>
          </p:nvSpPr>
          <p:spPr>
            <a:xfrm>
              <a:off x="2243520" y="639612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5"/>
            <p:cNvSpPr/>
            <p:nvPr/>
          </p:nvSpPr>
          <p:spPr>
            <a:xfrm>
              <a:off x="1237320" y="7028640"/>
              <a:ext cx="33408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6"/>
            <p:cNvSpPr/>
            <p:nvPr/>
          </p:nvSpPr>
          <p:spPr>
            <a:xfrm>
              <a:off x="3900600" y="541008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7"/>
            <p:cNvSpPr/>
            <p:nvPr/>
          </p:nvSpPr>
          <p:spPr>
            <a:xfrm>
              <a:off x="4557240" y="50194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8"/>
            <p:cNvSpPr/>
            <p:nvPr/>
          </p:nvSpPr>
          <p:spPr>
            <a:xfrm>
              <a:off x="5087520" y="4670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9"/>
            <p:cNvSpPr/>
            <p:nvPr/>
          </p:nvSpPr>
          <p:spPr>
            <a:xfrm>
              <a:off x="5684400" y="42958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00"/>
            <p:cNvSpPr/>
            <p:nvPr/>
          </p:nvSpPr>
          <p:spPr>
            <a:xfrm>
              <a:off x="3151800" y="588312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1"/>
            <p:cNvSpPr/>
            <p:nvPr/>
          </p:nvSpPr>
          <p:spPr>
            <a:xfrm>
              <a:off x="6146280" y="402984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6965280" y="3525120"/>
              <a:ext cx="2307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3"/>
            <p:cNvSpPr/>
            <p:nvPr/>
          </p:nvSpPr>
          <p:spPr>
            <a:xfrm>
              <a:off x="6568200" y="377748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04"/>
            <p:cNvSpPr/>
            <p:nvPr/>
          </p:nvSpPr>
          <p:spPr>
            <a:xfrm>
              <a:off x="7308360" y="33224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5"/>
            <p:cNvSpPr/>
            <p:nvPr/>
          </p:nvSpPr>
          <p:spPr>
            <a:xfrm>
              <a:off x="7591680" y="314532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06"/>
            <p:cNvSpPr/>
            <p:nvPr/>
          </p:nvSpPr>
          <p:spPr>
            <a:xfrm>
              <a:off x="7884000" y="2975760"/>
              <a:ext cx="213480" cy="88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7"/>
            <p:cNvSpPr/>
            <p:nvPr/>
          </p:nvSpPr>
          <p:spPr>
            <a:xfrm>
              <a:off x="8157240" y="28054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08"/>
            <p:cNvSpPr/>
            <p:nvPr/>
          </p:nvSpPr>
          <p:spPr>
            <a:xfrm>
              <a:off x="8405640" y="2646360"/>
              <a:ext cx="22356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9"/>
            <p:cNvSpPr/>
            <p:nvPr/>
          </p:nvSpPr>
          <p:spPr>
            <a:xfrm>
              <a:off x="8627760" y="250416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0"/>
            <p:cNvSpPr/>
            <p:nvPr/>
          </p:nvSpPr>
          <p:spPr>
            <a:xfrm>
              <a:off x="671148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1"/>
            <p:cNvSpPr/>
            <p:nvPr/>
          </p:nvSpPr>
          <p:spPr>
            <a:xfrm>
              <a:off x="575064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12"/>
            <p:cNvSpPr/>
            <p:nvPr/>
          </p:nvSpPr>
          <p:spPr>
            <a:xfrm>
              <a:off x="5201280" y="239040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3"/>
            <p:cNvSpPr/>
            <p:nvPr/>
          </p:nvSpPr>
          <p:spPr>
            <a:xfrm>
              <a:off x="5515920" y="226080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4"/>
            <p:cNvSpPr/>
            <p:nvPr/>
          </p:nvSpPr>
          <p:spPr>
            <a:xfrm>
              <a:off x="5285160" y="204696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4275360" y="239400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6"/>
            <p:cNvSpPr/>
            <p:nvPr/>
          </p:nvSpPr>
          <p:spPr>
            <a:xfrm>
              <a:off x="4026960" y="213480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7"/>
            <p:cNvSpPr/>
            <p:nvPr/>
          </p:nvSpPr>
          <p:spPr>
            <a:xfrm>
              <a:off x="3666240" y="22467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8"/>
            <p:cNvSpPr/>
            <p:nvPr/>
          </p:nvSpPr>
          <p:spPr>
            <a:xfrm>
              <a:off x="3899160" y="252360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9"/>
            <p:cNvSpPr/>
            <p:nvPr/>
          </p:nvSpPr>
          <p:spPr>
            <a:xfrm>
              <a:off x="1940760" y="249192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0"/>
            <p:cNvSpPr/>
            <p:nvPr/>
          </p:nvSpPr>
          <p:spPr>
            <a:xfrm>
              <a:off x="1069200" y="224676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1"/>
            <p:cNvSpPr/>
            <p:nvPr/>
          </p:nvSpPr>
          <p:spPr>
            <a:xfrm>
              <a:off x="533880" y="23763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2"/>
            <p:cNvSpPr/>
            <p:nvPr/>
          </p:nvSpPr>
          <p:spPr>
            <a:xfrm>
              <a:off x="272880" y="201924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3"/>
            <p:cNvSpPr/>
            <p:nvPr/>
          </p:nvSpPr>
          <p:spPr>
            <a:xfrm>
              <a:off x="7941600" y="238860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24"/>
            <p:cNvSpPr/>
            <p:nvPr/>
          </p:nvSpPr>
          <p:spPr>
            <a:xfrm>
              <a:off x="7712640" y="2520000"/>
              <a:ext cx="1836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5"/>
            <p:cNvSpPr/>
            <p:nvPr/>
          </p:nvSpPr>
          <p:spPr>
            <a:xfrm>
              <a:off x="6986520" y="237312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26"/>
            <p:cNvSpPr/>
            <p:nvPr/>
          </p:nvSpPr>
          <p:spPr>
            <a:xfrm>
              <a:off x="6065640" y="237312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27"/>
            <p:cNvSpPr/>
            <p:nvPr/>
          </p:nvSpPr>
          <p:spPr>
            <a:xfrm>
              <a:off x="4991400" y="214848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8"/>
            <p:cNvSpPr/>
            <p:nvPr/>
          </p:nvSpPr>
          <p:spPr>
            <a:xfrm>
              <a:off x="4686480" y="194004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9"/>
            <p:cNvSpPr/>
            <p:nvPr/>
          </p:nvSpPr>
          <p:spPr>
            <a:xfrm>
              <a:off x="5003280" y="182808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0"/>
            <p:cNvSpPr/>
            <p:nvPr/>
          </p:nvSpPr>
          <p:spPr>
            <a:xfrm>
              <a:off x="3398760" y="18194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1"/>
            <p:cNvSpPr/>
            <p:nvPr/>
          </p:nvSpPr>
          <p:spPr>
            <a:xfrm>
              <a:off x="1904040" y="2234520"/>
              <a:ext cx="1800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2"/>
            <p:cNvSpPr/>
            <p:nvPr/>
          </p:nvSpPr>
          <p:spPr>
            <a:xfrm>
              <a:off x="1447200" y="23623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33"/>
            <p:cNvSpPr/>
            <p:nvPr/>
          </p:nvSpPr>
          <p:spPr>
            <a:xfrm>
              <a:off x="939600" y="24991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4"/>
            <p:cNvSpPr/>
            <p:nvPr/>
          </p:nvSpPr>
          <p:spPr>
            <a:xfrm>
              <a:off x="1111320" y="18543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35"/>
            <p:cNvSpPr/>
            <p:nvPr/>
          </p:nvSpPr>
          <p:spPr>
            <a:xfrm>
              <a:off x="2694960" y="183672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36"/>
            <p:cNvSpPr/>
            <p:nvPr/>
          </p:nvSpPr>
          <p:spPr>
            <a:xfrm>
              <a:off x="1960200" y="185976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7"/>
            <p:cNvSpPr/>
            <p:nvPr/>
          </p:nvSpPr>
          <p:spPr>
            <a:xfrm>
              <a:off x="7229520" y="224676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8"/>
            <p:cNvSpPr/>
            <p:nvPr/>
          </p:nvSpPr>
          <p:spPr>
            <a:xfrm>
              <a:off x="6085080" y="203508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9"/>
            <p:cNvSpPr/>
            <p:nvPr/>
          </p:nvSpPr>
          <p:spPr>
            <a:xfrm>
              <a:off x="5801400" y="21506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40"/>
            <p:cNvSpPr/>
            <p:nvPr/>
          </p:nvSpPr>
          <p:spPr>
            <a:xfrm>
              <a:off x="555444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1"/>
            <p:cNvSpPr/>
            <p:nvPr/>
          </p:nvSpPr>
          <p:spPr>
            <a:xfrm>
              <a:off x="4193280" y="1838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2"/>
            <p:cNvSpPr/>
            <p:nvPr/>
          </p:nvSpPr>
          <p:spPr>
            <a:xfrm>
              <a:off x="4845960" y="2530440"/>
              <a:ext cx="194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3"/>
            <p:cNvSpPr/>
            <p:nvPr/>
          </p:nvSpPr>
          <p:spPr>
            <a:xfrm>
              <a:off x="4647960" y="22644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44"/>
            <p:cNvSpPr/>
            <p:nvPr/>
          </p:nvSpPr>
          <p:spPr>
            <a:xfrm>
              <a:off x="4376880" y="2027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45"/>
            <p:cNvSpPr/>
            <p:nvPr/>
          </p:nvSpPr>
          <p:spPr>
            <a:xfrm>
              <a:off x="3888360" y="19263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6"/>
            <p:cNvSpPr/>
            <p:nvPr/>
          </p:nvSpPr>
          <p:spPr>
            <a:xfrm>
              <a:off x="3550680" y="2032920"/>
              <a:ext cx="194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47"/>
            <p:cNvSpPr/>
            <p:nvPr/>
          </p:nvSpPr>
          <p:spPr>
            <a:xfrm>
              <a:off x="3281400" y="237312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48"/>
            <p:cNvSpPr/>
            <p:nvPr/>
          </p:nvSpPr>
          <p:spPr>
            <a:xfrm>
              <a:off x="3165840" y="213984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9"/>
            <p:cNvSpPr/>
            <p:nvPr/>
          </p:nvSpPr>
          <p:spPr>
            <a:xfrm>
              <a:off x="3041640" y="192096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0"/>
            <p:cNvSpPr/>
            <p:nvPr/>
          </p:nvSpPr>
          <p:spPr>
            <a:xfrm>
              <a:off x="2770560" y="225540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1"/>
            <p:cNvSpPr/>
            <p:nvPr/>
          </p:nvSpPr>
          <p:spPr>
            <a:xfrm>
              <a:off x="2413440" y="23500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52"/>
            <p:cNvSpPr/>
            <p:nvPr/>
          </p:nvSpPr>
          <p:spPr>
            <a:xfrm>
              <a:off x="2675520" y="20228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2264400" y="21384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4"/>
            <p:cNvSpPr/>
            <p:nvPr/>
          </p:nvSpPr>
          <p:spPr>
            <a:xfrm>
              <a:off x="229932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5"/>
            <p:cNvSpPr/>
            <p:nvPr/>
          </p:nvSpPr>
          <p:spPr>
            <a:xfrm>
              <a:off x="1893240" y="204012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6"/>
            <p:cNvSpPr/>
            <p:nvPr/>
          </p:nvSpPr>
          <p:spPr>
            <a:xfrm>
              <a:off x="1534680" y="1961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57"/>
            <p:cNvSpPr/>
            <p:nvPr/>
          </p:nvSpPr>
          <p:spPr>
            <a:xfrm>
              <a:off x="1531440" y="212760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8"/>
            <p:cNvSpPr/>
            <p:nvPr/>
          </p:nvSpPr>
          <p:spPr>
            <a:xfrm>
              <a:off x="1190160" y="20469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59"/>
            <p:cNvSpPr/>
            <p:nvPr/>
          </p:nvSpPr>
          <p:spPr>
            <a:xfrm>
              <a:off x="718920" y="21556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60"/>
            <p:cNvSpPr/>
            <p:nvPr/>
          </p:nvSpPr>
          <p:spPr>
            <a:xfrm>
              <a:off x="759600" y="19245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61"/>
            <p:cNvSpPr/>
            <p:nvPr/>
          </p:nvSpPr>
          <p:spPr>
            <a:xfrm>
              <a:off x="208440" y="22960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62"/>
            <p:cNvSpPr/>
            <p:nvPr/>
          </p:nvSpPr>
          <p:spPr>
            <a:xfrm>
              <a:off x="1501560" y="175104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63"/>
            <p:cNvSpPr/>
            <p:nvPr/>
          </p:nvSpPr>
          <p:spPr>
            <a:xfrm>
              <a:off x="2346480" y="177228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64"/>
            <p:cNvSpPr/>
            <p:nvPr/>
          </p:nvSpPr>
          <p:spPr>
            <a:xfrm>
              <a:off x="3043440" y="176328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65"/>
            <p:cNvSpPr/>
            <p:nvPr/>
          </p:nvSpPr>
          <p:spPr>
            <a:xfrm>
              <a:off x="3702960" y="175104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6"/>
            <p:cNvSpPr/>
            <p:nvPr/>
          </p:nvSpPr>
          <p:spPr>
            <a:xfrm>
              <a:off x="4060440" y="164628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7"/>
            <p:cNvSpPr/>
            <p:nvPr/>
          </p:nvSpPr>
          <p:spPr>
            <a:xfrm>
              <a:off x="4551840" y="1740600"/>
              <a:ext cx="18000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68"/>
            <p:cNvSpPr/>
            <p:nvPr/>
          </p:nvSpPr>
          <p:spPr>
            <a:xfrm>
              <a:off x="2917440" y="248508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69"/>
            <p:cNvSpPr/>
            <p:nvPr/>
          </p:nvSpPr>
          <p:spPr>
            <a:xfrm>
              <a:off x="4475160" y="26532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70"/>
            <p:cNvSpPr/>
            <p:nvPr/>
          </p:nvSpPr>
          <p:spPr>
            <a:xfrm>
              <a:off x="6333480" y="225180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1"/>
            <p:cNvSpPr/>
            <p:nvPr/>
          </p:nvSpPr>
          <p:spPr>
            <a:xfrm>
              <a:off x="6634440" y="212076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72"/>
            <p:cNvSpPr/>
            <p:nvPr/>
          </p:nvSpPr>
          <p:spPr>
            <a:xfrm>
              <a:off x="3734280" y="158832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3"/>
            <p:cNvSpPr/>
            <p:nvPr/>
          </p:nvSpPr>
          <p:spPr>
            <a:xfrm>
              <a:off x="2212200" y="15883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74"/>
            <p:cNvSpPr/>
            <p:nvPr/>
          </p:nvSpPr>
          <p:spPr>
            <a:xfrm>
              <a:off x="2574360" y="15199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75"/>
            <p:cNvSpPr/>
            <p:nvPr/>
          </p:nvSpPr>
          <p:spPr>
            <a:xfrm>
              <a:off x="2887560" y="144144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76"/>
            <p:cNvSpPr/>
            <p:nvPr/>
          </p:nvSpPr>
          <p:spPr>
            <a:xfrm>
              <a:off x="3356640" y="1519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77"/>
            <p:cNvSpPr/>
            <p:nvPr/>
          </p:nvSpPr>
          <p:spPr>
            <a:xfrm>
              <a:off x="3010320" y="161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8"/>
            <p:cNvSpPr/>
            <p:nvPr/>
          </p:nvSpPr>
          <p:spPr>
            <a:xfrm>
              <a:off x="3348000" y="1674000"/>
              <a:ext cx="16596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9"/>
            <p:cNvSpPr/>
            <p:nvPr/>
          </p:nvSpPr>
          <p:spPr>
            <a:xfrm>
              <a:off x="2696760" y="16826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0"/>
            <p:cNvSpPr/>
            <p:nvPr/>
          </p:nvSpPr>
          <p:spPr>
            <a:xfrm>
              <a:off x="1883160" y="166680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81"/>
            <p:cNvSpPr/>
            <p:nvPr/>
          </p:nvSpPr>
          <p:spPr>
            <a:xfrm>
              <a:off x="3470040" y="705096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2"/>
            <p:cNvSpPr/>
            <p:nvPr/>
          </p:nvSpPr>
          <p:spPr>
            <a:xfrm>
              <a:off x="4305240" y="6427440"/>
              <a:ext cx="34272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3"/>
            <p:cNvSpPr/>
            <p:nvPr/>
          </p:nvSpPr>
          <p:spPr>
            <a:xfrm>
              <a:off x="5666760" y="54644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4"/>
            <p:cNvSpPr/>
            <p:nvPr/>
          </p:nvSpPr>
          <p:spPr>
            <a:xfrm>
              <a:off x="6212880" y="5042160"/>
              <a:ext cx="27432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5"/>
            <p:cNvSpPr/>
            <p:nvPr/>
          </p:nvSpPr>
          <p:spPr>
            <a:xfrm>
              <a:off x="5061240" y="591264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6"/>
            <p:cNvSpPr/>
            <p:nvPr/>
          </p:nvSpPr>
          <p:spPr>
            <a:xfrm>
              <a:off x="6770880" y="4651560"/>
              <a:ext cx="26424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7"/>
            <p:cNvSpPr/>
            <p:nvPr/>
          </p:nvSpPr>
          <p:spPr>
            <a:xfrm>
              <a:off x="7157880" y="433260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8"/>
            <p:cNvSpPr/>
            <p:nvPr/>
          </p:nvSpPr>
          <p:spPr>
            <a:xfrm>
              <a:off x="7572600" y="405072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89"/>
            <p:cNvSpPr/>
            <p:nvPr/>
          </p:nvSpPr>
          <p:spPr>
            <a:xfrm>
              <a:off x="8246520" y="35391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0"/>
            <p:cNvSpPr/>
            <p:nvPr/>
          </p:nvSpPr>
          <p:spPr>
            <a:xfrm>
              <a:off x="7932960" y="378468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91"/>
            <p:cNvSpPr/>
            <p:nvPr/>
          </p:nvSpPr>
          <p:spPr>
            <a:xfrm>
              <a:off x="8510400" y="33609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92"/>
            <p:cNvSpPr/>
            <p:nvPr/>
          </p:nvSpPr>
          <p:spPr>
            <a:xfrm>
              <a:off x="8766000" y="31626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93"/>
            <p:cNvSpPr/>
            <p:nvPr/>
          </p:nvSpPr>
          <p:spPr>
            <a:xfrm>
              <a:off x="9032040" y="297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94"/>
            <p:cNvSpPr/>
            <p:nvPr/>
          </p:nvSpPr>
          <p:spPr>
            <a:xfrm>
              <a:off x="9235080" y="28245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95"/>
            <p:cNvSpPr/>
            <p:nvPr/>
          </p:nvSpPr>
          <p:spPr>
            <a:xfrm>
              <a:off x="9446760" y="266184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96"/>
            <p:cNvSpPr/>
            <p:nvPr/>
          </p:nvSpPr>
          <p:spPr>
            <a:xfrm>
              <a:off x="5696640" y="7128000"/>
              <a:ext cx="3499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97"/>
            <p:cNvSpPr/>
            <p:nvPr/>
          </p:nvSpPr>
          <p:spPr>
            <a:xfrm>
              <a:off x="6389640" y="646596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98"/>
            <p:cNvSpPr/>
            <p:nvPr/>
          </p:nvSpPr>
          <p:spPr>
            <a:xfrm>
              <a:off x="8353080" y="6487200"/>
              <a:ext cx="35136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99"/>
            <p:cNvSpPr/>
            <p:nvPr/>
          </p:nvSpPr>
          <p:spPr>
            <a:xfrm>
              <a:off x="7859520" y="708948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00"/>
            <p:cNvSpPr/>
            <p:nvPr/>
          </p:nvSpPr>
          <p:spPr>
            <a:xfrm>
              <a:off x="6980760" y="59457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1"/>
            <p:cNvSpPr/>
            <p:nvPr/>
          </p:nvSpPr>
          <p:spPr>
            <a:xfrm>
              <a:off x="7460640" y="5499360"/>
              <a:ext cx="291960" cy="1663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02"/>
            <p:cNvSpPr/>
            <p:nvPr/>
          </p:nvSpPr>
          <p:spPr>
            <a:xfrm>
              <a:off x="8827560" y="5984280"/>
              <a:ext cx="291960" cy="163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3"/>
            <p:cNvSpPr/>
            <p:nvPr/>
          </p:nvSpPr>
          <p:spPr>
            <a:xfrm>
              <a:off x="7967880" y="5029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04"/>
            <p:cNvSpPr/>
            <p:nvPr/>
          </p:nvSpPr>
          <p:spPr>
            <a:xfrm>
              <a:off x="9263160" y="5455440"/>
              <a:ext cx="293400" cy="1627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05"/>
            <p:cNvSpPr/>
            <p:nvPr/>
          </p:nvSpPr>
          <p:spPr>
            <a:xfrm>
              <a:off x="9619920" y="5040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06"/>
            <p:cNvSpPr/>
            <p:nvPr/>
          </p:nvSpPr>
          <p:spPr>
            <a:xfrm>
              <a:off x="8351280" y="4679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7"/>
            <p:cNvSpPr/>
            <p:nvPr/>
          </p:nvSpPr>
          <p:spPr>
            <a:xfrm>
              <a:off x="8690760" y="435528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8"/>
            <p:cNvSpPr/>
            <p:nvPr/>
          </p:nvSpPr>
          <p:spPr>
            <a:xfrm>
              <a:off x="9527400" y="359208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9"/>
            <p:cNvSpPr/>
            <p:nvPr/>
          </p:nvSpPr>
          <p:spPr>
            <a:xfrm>
              <a:off x="9032040" y="4050720"/>
              <a:ext cx="24480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10"/>
            <p:cNvSpPr/>
            <p:nvPr/>
          </p:nvSpPr>
          <p:spPr>
            <a:xfrm>
              <a:off x="9306720" y="3809160"/>
              <a:ext cx="234360" cy="109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11"/>
            <p:cNvSpPr/>
            <p:nvPr/>
          </p:nvSpPr>
          <p:spPr>
            <a:xfrm>
              <a:off x="9767160" y="33836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12"/>
            <p:cNvSpPr/>
            <p:nvPr/>
          </p:nvSpPr>
          <p:spPr>
            <a:xfrm>
              <a:off x="9956160" y="316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13"/>
            <p:cNvSpPr/>
            <p:nvPr/>
          </p:nvSpPr>
          <p:spPr>
            <a:xfrm>
              <a:off x="9910440" y="469188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4"/>
            <p:cNvSpPr/>
            <p:nvPr/>
          </p:nvSpPr>
          <p:spPr>
            <a:xfrm>
              <a:off x="-113760" y="50158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5"/>
            <p:cNvSpPr/>
            <p:nvPr/>
          </p:nvSpPr>
          <p:spPr>
            <a:xfrm>
              <a:off x="3600" y="433620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6"/>
            <p:cNvSpPr/>
            <p:nvPr/>
          </p:nvSpPr>
          <p:spPr>
            <a:xfrm>
              <a:off x="-15480" y="251280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17"/>
            <p:cNvSpPr/>
            <p:nvPr/>
          </p:nvSpPr>
          <p:spPr>
            <a:xfrm>
              <a:off x="9842040" y="7021440"/>
              <a:ext cx="3517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5E586DE-D271-440E-8E9A-C52BF45EDEA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15560" y="1446120"/>
            <a:ext cx="10307880" cy="6204600"/>
            <a:chOff x="-115560" y="1446120"/>
            <a:chExt cx="10307880" cy="62046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5920" y="181152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43560" y="197568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8600" y="209988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77040" y="2248920"/>
              <a:ext cx="433152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90360" y="2448360"/>
              <a:ext cx="484776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15560" y="2669040"/>
              <a:ext cx="53553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64160" y="2967480"/>
              <a:ext cx="595368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74960" y="3263040"/>
              <a:ext cx="656100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90520" y="3596040"/>
              <a:ext cx="736632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76200" y="400896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549360" y="4582800"/>
              <a:ext cx="91000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4040" y="5045040"/>
              <a:ext cx="945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306520" y="512820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689720" y="5377320"/>
              <a:ext cx="625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7090560" y="6133320"/>
              <a:ext cx="3638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9393480" y="728964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56680" y="4133520"/>
              <a:ext cx="105811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47760" y="5946480"/>
              <a:ext cx="7248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90520" y="634608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94040" y="686736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79800" y="5640840"/>
              <a:ext cx="9585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202680" y="3729600"/>
              <a:ext cx="1053216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37880" y="3408480"/>
              <a:ext cx="1007352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652680" y="3156840"/>
              <a:ext cx="95817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481760" y="2772000"/>
              <a:ext cx="8708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840680" y="258696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2175480" y="2413440"/>
              <a:ext cx="797508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600640" y="228672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885400" y="2134800"/>
              <a:ext cx="72698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1067400" y="2950920"/>
              <a:ext cx="910764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58560" y="5211000"/>
              <a:ext cx="107632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305640" y="4664160"/>
              <a:ext cx="10685520" cy="82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2120" bIns="-421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293120" y="588240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411480" y="53834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76480" y="6395040"/>
              <a:ext cx="342720" cy="185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633120" y="46605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2138400" y="538704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949120" y="50040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310760" y="497232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640440" y="4651920"/>
              <a:ext cx="26244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049120" y="46274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4200480" y="43527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341160" y="40536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943080" y="377352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796640" y="4037400"/>
              <a:ext cx="2451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919400" y="332568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6510600" y="31399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172920" y="332208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5360400" y="311508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733360" y="35460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5295600" y="3783960"/>
              <a:ext cx="232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44280" y="4296600"/>
              <a:ext cx="26208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3258360" y="35528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646000" y="38102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082600" y="4048200"/>
              <a:ext cx="2343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017800" y="358632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996920" y="31593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623680" y="334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3155400" y="31557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776760" y="333792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4254120" y="313092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820800" y="3560040"/>
              <a:ext cx="234000" cy="127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17360" y="379440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394640" y="335700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94160" y="314856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95840" y="33307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754200" y="406944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423080" y="381528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378800" y="43300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450320" y="353052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548080" y="297900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3055680" y="280224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421720" y="263952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911240" y="2795400"/>
              <a:ext cx="21492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384560" y="2961360"/>
              <a:ext cx="21636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517560" y="264996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650760" y="297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4102200" y="28054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695480" y="29545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408680" y="26499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864360" y="279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97080" y="26427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72880" y="297540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5050800" y="27954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5387040" y="26481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721120" y="2958120"/>
              <a:ext cx="2170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6041520" y="280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6387840" y="263952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7437960" y="26517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825240" y="29808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7149240" y="28180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241720" y="639684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235520" y="7029000"/>
              <a:ext cx="33408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899160" y="541152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555440" y="50212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5085720" y="46728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682600" y="4298400"/>
              <a:ext cx="262080" cy="163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3150000" y="5884200"/>
              <a:ext cx="2937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6144480" y="403236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963840" y="35283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6566400" y="378036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7306560" y="3325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7589880" y="314856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882560" y="297900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8155440" y="28090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8404200" y="2649960"/>
              <a:ext cx="223560" cy="88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8626320" y="250812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70968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74884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5199480" y="239436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514480" y="226476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5283360" y="205128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4273560" y="239796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4025160" y="213876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664440" y="22507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897360" y="2527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938960" y="249552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1067400" y="225072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532080" y="23803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71080" y="2023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940160" y="23925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7711200" y="2523960"/>
              <a:ext cx="1836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984720" y="237708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6064200" y="237708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989600" y="215280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685040" y="19443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5001480" y="183240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396960" y="182376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902240" y="2238480"/>
              <a:ext cx="1800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445400" y="236628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937800" y="250272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109520" y="185868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693520" y="184140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958400" y="186408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7228080" y="2250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6083640" y="2039400"/>
              <a:ext cx="19548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799600" y="21546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55300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4191480" y="1843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844520" y="2534040"/>
              <a:ext cx="194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646520" y="226836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4375440" y="2032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886920" y="19306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548880" y="2037240"/>
              <a:ext cx="194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3279600" y="23770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3164040" y="21441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3039840" y="19252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768760" y="2259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411640" y="2354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674080" y="20268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262600" y="21423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29752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891800" y="204444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532880" y="19656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529640" y="213192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188360" y="20512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717120" y="21600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757800" y="19288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206640" y="230004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500120" y="175536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345040" y="177660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3041640" y="176796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701520" y="175536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4058640" y="165060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550400" y="1745280"/>
              <a:ext cx="1800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915640" y="248904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473360" y="26568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6332040" y="22561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632640" y="212508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732840" y="159264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210400" y="159264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572560" y="152460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885760" y="14461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354840" y="152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3008520" y="1618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346200" y="1678680"/>
              <a:ext cx="16596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694960" y="168732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881360" y="167148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468600" y="705132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4303440" y="6428520"/>
              <a:ext cx="34272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665320" y="546588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6211440" y="5043960"/>
              <a:ext cx="27432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5059440" y="591408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769440" y="4654080"/>
              <a:ext cx="264240" cy="146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7156080" y="433512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7571160" y="405360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8244720" y="35424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931520" y="378756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8508960" y="33642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8764560" y="316584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9030600" y="298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9233640" y="28281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9445320" y="266544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694840" y="7128360"/>
              <a:ext cx="349920" cy="180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6387840" y="646704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8351640" y="6487920"/>
              <a:ext cx="35136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858080" y="708984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979320" y="59468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7459200" y="5500800"/>
              <a:ext cx="2919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825760" y="5985360"/>
              <a:ext cx="2919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966440" y="50317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9261720" y="5457240"/>
              <a:ext cx="29340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9618480" y="50425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8349840" y="4681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8689320" y="4357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9525960" y="35949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9030600" y="4053600"/>
              <a:ext cx="2448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9305280" y="38120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9765720" y="33865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954720" y="31730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9909000" y="46940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15560" y="50176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800" y="4338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7280" y="25167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9840600" y="7021800"/>
              <a:ext cx="35172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49480D8-EF06-4020-A353-7E783DE7C27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4360" y="306000"/>
            <a:ext cx="906948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i="1" lang="de-DE" sz="4900" spc="-1" strike="noStrike">
                <a:solidFill>
                  <a:srgbClr val="cc3300"/>
                </a:solidFill>
                <a:latin typeface="Arial"/>
              </a:rPr>
              <a:t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</a:t>
            </a:r>
            <a:br>
              <a:rPr sz="4900"/>
            </a:br>
            <a:r>
              <a:rPr b="0" i="1" lang="ru-RU" sz="4900" spc="-1" strike="noStrike">
                <a:solidFill>
                  <a:srgbClr val="cc3300"/>
                </a:solidFill>
                <a:latin typeface="Arial"/>
              </a:rPr>
              <a:t>на 1 января 2025 год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Объект 1" descr=""/>
          <p:cNvPicPr/>
          <p:nvPr/>
        </p:nvPicPr>
        <p:blipFill>
          <a:blip r:embed="rId1"/>
          <a:stretch/>
        </p:blipFill>
        <p:spPr>
          <a:xfrm>
            <a:off x="1927080" y="7020000"/>
            <a:ext cx="100080" cy="71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Крутинского муниципального района Омской области по состоянию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на 01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января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59320" y="3549600"/>
          <a:ext cx="4505400" cy="3691080"/>
        </p:xfrm>
        <a:graphic>
          <a:graphicData uri="http://schemas.openxmlformats.org/drawingml/2006/table">
            <a:tbl>
              <a:tblPr/>
              <a:tblGrid>
                <a:gridCol w="976320"/>
                <a:gridCol w="2835360"/>
                <a:gridCol w="693720"/>
              </a:tblGrid>
              <a:tr h="814320"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нимаем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ельского по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6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карасук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тинское город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ма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пун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лух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к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оконце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ерм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400720" y="1907640"/>
            <a:ext cx="45352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rmAutofit/>
          </a:bodyPr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Степень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5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558200" y="1979640"/>
          <a:ext cx="2306520" cy="1452600"/>
        </p:xfrm>
        <a:graphic>
          <a:graphicData uri="http://schemas.openxmlformats.org/drawingml/2006/table">
            <a:tbl>
              <a:tblPr/>
              <a:tblGrid>
                <a:gridCol w="388800"/>
                <a:gridCol w="1917720"/>
              </a:tblGrid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492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е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I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602" name="Рисунок 1" descr=""/>
          <p:cNvPicPr/>
          <p:nvPr/>
        </p:nvPicPr>
        <p:blipFill>
          <a:blip r:embed="rId2"/>
          <a:stretch/>
        </p:blipFill>
        <p:spPr>
          <a:xfrm>
            <a:off x="216000" y="2103480"/>
            <a:ext cx="501336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зультаты проведения оценки качества организации и осуществления бюджетного процесса в поселениях Крутинского муниципального района Омской области по состоянию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01 января 2025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5116680" y="1763640"/>
          <a:ext cx="4460760" cy="242244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24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5" name="Рисунок 1" descr=""/>
          <p:cNvPicPr/>
          <p:nvPr/>
        </p:nvPicPr>
        <p:blipFill>
          <a:blip r:embed="rId1"/>
          <a:stretch/>
        </p:blipFill>
        <p:spPr>
          <a:xfrm>
            <a:off x="1071720" y="1763640"/>
            <a:ext cx="80899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максимальных и минимальных оценок показателей по поселениям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Крутинского муниципальн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Object 20"/>
          <p:cNvGraphicFramePr/>
          <p:nvPr/>
        </p:nvGraphicFramePr>
        <p:xfrm>
          <a:off x="5184720" y="2570040"/>
          <a:ext cx="445788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4720" y="2570040"/>
                    <a:ext cx="445788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Диаграмма 5"/>
          <p:cNvGraphicFramePr/>
          <p:nvPr/>
        </p:nvGraphicFramePr>
        <p:xfrm>
          <a:off x="885960" y="1519200"/>
          <a:ext cx="8237520" cy="582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0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5960" y="1519200"/>
                    <a:ext cx="82375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450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Times New Roman"/>
              </a:rPr>
              <a:t>Справочная информац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4720" y="1115640"/>
            <a:ext cx="9072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проведена на основани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ого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отчета об исполнении бюджетов поселений Крутинского муниципального района по состоянию на 0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года, а также информации, представленной органами местного самоуправления поселений Крутинского муниципального района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осуществлена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показ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655640" y="3708360"/>
          <a:ext cx="6264360" cy="3456000"/>
        </p:xfrm>
        <a:graphic>
          <a:graphicData uri="http://schemas.openxmlformats.org/drawingml/2006/table">
            <a:tbl>
              <a:tblPr/>
              <a:tblGrid>
                <a:gridCol w="3316320"/>
                <a:gridCol w="1378080"/>
                <a:gridCol w="1569960"/>
              </a:tblGrid>
              <a:tr h="1158840"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е, бал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я от максимально возможной оценки,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368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 возможная к полу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700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я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68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3648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>User17</cp:lastModifiedBy>
  <cp:lastPrinted>2024-02-28T02:18:42Z</cp:lastPrinted>
  <dcterms:modified xsi:type="dcterms:W3CDTF">2025-02-27T03:54:13Z</dcterms:modified>
  <cp:revision>120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